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ct" ContentType="image/x-pict"/>
  <Override PartName="/ppt/media/image25.pct" ContentType="image/x-pict"/>
  <Override PartName="/ppt/media/image7.jpeg" ContentType="image/jpeg"/>
  <Override PartName="/ppt/media/image24.jpeg" ContentType="image/jpeg"/>
  <Override PartName="/ppt/media/image22.jpeg" ContentType="image/jpeg"/>
  <Override PartName="/ppt/media/image36.pct" ContentType="image/x-pict"/>
  <Override PartName="/ppt/media/image21.jpeg" ContentType="image/jpeg"/>
  <Override PartName="/ppt/media/image26.pct" ContentType="image/x-pict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35.pct" ContentType="image/x-pict"/>
  <Override PartName="/ppt/media/image32.pct" ContentType="image/x-pict"/>
  <Override PartName="/ppt/media/image33.pct" ContentType="image/x-pict"/>
  <Override PartName="/ppt/media/image6.jpeg" ContentType="image/jpeg"/>
  <Override PartName="/ppt/media/image11.jpeg" ContentType="image/jpeg"/>
  <Override PartName="/ppt/media/image9.jpeg" ContentType="image/jpeg"/>
  <Override PartName="/ppt/media/image34.pct" ContentType="image/x-pict"/>
  <Override PartName="/ppt/media/image13.pct" ContentType="image/x-pict"/>
  <Override PartName="/ppt/media/image4.jpeg" ContentType="image/jpeg"/>
  <Override PartName="/ppt/media/image37.pct" ContentType="image/x-pict"/>
  <Override PartName="/ppt/media/image38.pct" ContentType="image/x-pict"/>
  <Override PartName="/ppt/media/image40.pct" ContentType="image/x-pict"/>
  <Override PartName="/ppt/media/image41.pct" ContentType="image/x-pict"/>
  <Override PartName="/ppt/media/image15.jpeg" ContentType="image/jpeg"/>
  <Override PartName="/ppt/media/image16.jpeg" ContentType="image/jpeg"/>
  <Override PartName="/ppt/media/image29.pct" ContentType="image/x-pict"/>
  <Override PartName="/ppt/media/image31.pct" ContentType="image/x-pict"/>
  <Override PartName="/ppt/media/image12.jpeg" ContentType="image/jpeg"/>
  <Override PartName="/ppt/media/image5.jpeg" ContentType="image/jpeg"/>
  <Override PartName="/ppt/media/image2.jpeg" ContentType="image/jpeg"/>
  <Override PartName="/ppt/media/image23.jpeg" ContentType="image/jpeg"/>
  <Override PartName="/ppt/media/image28.pct" ContentType="image/x-pict"/>
  <Override PartName="/ppt/media/image30.pct" ContentType="image/x-pict"/>
  <Override PartName="/ppt/media/image3.png" ContentType="image/png"/>
  <Override PartName="/ppt/media/image39.pct" ContentType="image/x-pict"/>
  <Override PartName="/ppt/media/image17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10439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19000" y="685440"/>
            <a:ext cx="522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f271f"/>
                </a:solidFill>
                <a:latin typeface="Copperplate Gothic Light"/>
              </a:rPr>
              <a:t>Click to move the slide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BD68-5DC9-48A4-BE7B-8CE56E64065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atura della sfera di raggio 1; di raggio R&gt;1; di raggio R&lt;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atura positiva; curvatura negativ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atura come confronto delle aree tramite la mappa di Gau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atura come confronto delle aree tramite la mappa di Gau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mpo vettoriale sul piano: esempi (velocita’). D\sigma/dt = X(\sig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velocita’). D\sigma/dt = X(\sig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empi di indice (invariante locale e qualitativo - analiti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empi di campi vettoriali e di indici su superfici (sfera, toro) invariante locale e qualitativo - anali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ema del parrucchi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ema del parrucchi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edri regola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ro quadrato; toro quadrato con due buch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19000" y="685800"/>
            <a:ext cx="5220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fera; to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E8A-46F8-4F75-92A4-B8EC3A4C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7308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565280" y="4802040"/>
            <a:ext cx="7308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85C-4CC6-46B0-BC43-B864D683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6528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1036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0D8-21D8-4A60-8BFB-594905A0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6680" y="388620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8080" y="388620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565280" y="480204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36680" y="480204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508080" y="480204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78A-C994-4FF8-87C2-102575E2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CEF5-00D8-4FA2-B7F7-748D640B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65280" y="388620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5D98-41FC-4E68-9E41-C903B24B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2FBE-3D2C-4AF2-AABE-A95592EE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E768-8066-450E-9D4F-2866479E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6502-E2B1-42D9-8A3A-AD91716A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82640" y="2133360"/>
            <a:ext cx="8874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D9CD-4539-4AB3-9D8A-31A2E1D8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56528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8F66-2BF9-450F-9318-A22BB006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565280" y="388620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F22-93C8-48F0-ADAC-7200597C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1036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A8DB-6F71-4FB8-B474-3A91290D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65280" y="4802040"/>
            <a:ext cx="7308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E553-9A31-46DF-9E42-11449B6E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7308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565280" y="4802040"/>
            <a:ext cx="7308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9E02-92EE-4E64-BA8F-D85E80B7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56528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1036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FEB7-A931-4BC2-93CB-C24923CF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36680" y="388620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08080" y="388620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565280" y="480204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036680" y="480204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08080" y="4802040"/>
            <a:ext cx="2353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0B29-E7BD-4926-B3D9-9AEEF47C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271-0387-4823-8216-DD941494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752-AAAE-4A0D-866B-8281614E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15E-D550-42B1-8EC3-FDF27328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782640" y="2133360"/>
            <a:ext cx="8874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13E-BC4D-4AED-9F5C-9BD66BB1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6528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647-E74D-49B9-9F51-A35EC7E4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10360" y="480204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DE7-76F0-48CD-8131-C94BA2A6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6528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10360" y="3886200"/>
            <a:ext cx="35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65280" y="4802040"/>
            <a:ext cx="7308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3F1-D4A5-42DC-8891-B10EBC07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2640" y="60912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f271f"/>
                </a:solidFill>
                <a:latin typeface="Copperplate Gothic Light"/>
              </a:rPr>
              <a:t>Click to edit the title text format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2640" y="1981080"/>
            <a:ext cx="88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78e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988b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9457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f4fa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f4fa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f4fa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2280" y="6172200"/>
            <a:ext cx="217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f271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271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6880" y="6172200"/>
            <a:ext cx="33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f271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271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81520" y="6172200"/>
            <a:ext cx="217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f271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586D-5C8A-4BC1-8762-EA10B8CE4936}" type="slidenum">
              <a:rPr b="0" lang="en-US" sz="1400" spc="-1" strike="noStrike">
                <a:solidFill>
                  <a:srgbClr val="cf271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51000" y="6780240"/>
            <a:ext cx="9737640" cy="74520"/>
            <a:chOff x="351000" y="6780240"/>
            <a:chExt cx="9737640" cy="74520"/>
          </a:xfrm>
        </p:grpSpPr>
        <p:sp>
          <p:nvSpPr>
            <p:cNvPr id="6" name=""/>
            <p:cNvSpPr/>
            <p:nvPr/>
          </p:nvSpPr>
          <p:spPr>
            <a:xfrm>
              <a:off x="957240" y="6780240"/>
              <a:ext cx="608040" cy="74520"/>
            </a:xfrm>
            <a:prstGeom prst="rect">
              <a:avLst/>
            </a:prstGeom>
            <a:solidFill>
              <a:srgbClr val="949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1000" y="6780240"/>
              <a:ext cx="607680" cy="74520"/>
            </a:xfrm>
            <a:prstGeom prst="rect">
              <a:avLst/>
            </a:prstGeom>
            <a:solidFill>
              <a:srgbClr val="aa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174760" y="6780240"/>
              <a:ext cx="608040" cy="74520"/>
            </a:xfrm>
            <a:prstGeom prst="rect">
              <a:avLst/>
            </a:prstGeom>
            <a:solidFill>
              <a:srgbClr val="328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566720" y="6780240"/>
              <a:ext cx="608040" cy="74520"/>
            </a:xfrm>
            <a:prstGeom prst="rect">
              <a:avLst/>
            </a:prstGeom>
            <a:solidFill>
              <a:srgbClr val="58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92640" y="6780240"/>
              <a:ext cx="608040" cy="74520"/>
            </a:xfrm>
            <a:prstGeom prst="rect">
              <a:avLst/>
            </a:prstGeom>
            <a:solidFill>
              <a:srgbClr val="9a8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81360" y="6780240"/>
              <a:ext cx="608040" cy="74520"/>
            </a:xfrm>
            <a:prstGeom prst="rect">
              <a:avLst/>
            </a:prstGeom>
            <a:solidFill>
              <a:srgbClr val="3a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10160" y="6780240"/>
              <a:ext cx="608040" cy="74520"/>
            </a:xfrm>
            <a:prstGeom prst="rect">
              <a:avLst/>
            </a:prstGeom>
            <a:solidFill>
              <a:srgbClr val="da9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003560" y="6780240"/>
              <a:ext cx="608040" cy="74520"/>
            </a:xfrm>
            <a:prstGeom prst="rect">
              <a:avLst/>
            </a:prstGeom>
            <a:solidFill>
              <a:srgbClr val="705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827680" y="6780240"/>
              <a:ext cx="608040" cy="74520"/>
            </a:xfrm>
            <a:prstGeom prst="rect">
              <a:avLst/>
            </a:prstGeom>
            <a:solidFill>
              <a:srgbClr val="b6b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218200" y="6780240"/>
              <a:ext cx="609480" cy="74520"/>
            </a:xfrm>
            <a:prstGeom prst="rect">
              <a:avLst/>
            </a:prstGeom>
            <a:solidFill>
              <a:srgbClr val="f5dd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45200" y="6780240"/>
              <a:ext cx="608040" cy="74520"/>
            </a:xfrm>
            <a:prstGeom prst="rect">
              <a:avLst/>
            </a:prstGeom>
            <a:solidFill>
              <a:srgbClr val="929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434280" y="6780240"/>
              <a:ext cx="609480" cy="74520"/>
            </a:xfrm>
            <a:prstGeom prst="rect">
              <a:avLst/>
            </a:prstGeom>
            <a:solidFill>
              <a:srgbClr val="b3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263080" y="6780240"/>
              <a:ext cx="608040" cy="74520"/>
            </a:xfrm>
            <a:prstGeom prst="rect">
              <a:avLst/>
            </a:prstGeom>
            <a:solidFill>
              <a:srgbClr val="3a8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653240" y="6780240"/>
              <a:ext cx="609840" cy="74520"/>
            </a:xfrm>
            <a:prstGeom prst="rect">
              <a:avLst/>
            </a:prstGeom>
            <a:solidFill>
              <a:srgbClr val="58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480600" y="6780240"/>
              <a:ext cx="608040" cy="74520"/>
            </a:xfrm>
            <a:prstGeom prst="rect">
              <a:avLst/>
            </a:prstGeom>
            <a:solidFill>
              <a:srgbClr val="9b8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872560" y="6780240"/>
              <a:ext cx="609480" cy="74520"/>
            </a:xfrm>
            <a:prstGeom prst="rect">
              <a:avLst/>
            </a:prstGeom>
            <a:solidFill>
              <a:srgbClr val="39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pic>
        <p:nvPicPr>
          <p:cNvPr id="22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10436400" cy="1460520"/>
          </a:xfrm>
          <a:prstGeom prst="rect">
            <a:avLst/>
          </a:prstGeom>
          <a:ln w="0">
            <a:noFill/>
          </a:ln>
        </p:spPr>
      </p:pic>
      <p:sp>
        <p:nvSpPr>
          <p:cNvPr id="23" name=""/>
          <p:cNvSpPr/>
          <p:nvPr/>
        </p:nvSpPr>
        <p:spPr>
          <a:xfrm>
            <a:off x="1436760" y="162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f271f"/>
                </a:solidFill>
                <a:latin typeface="Copperplate Gothic Light"/>
              </a:rPr>
              <a:t>Perché NOBEL?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1905120" y="10555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53d2c"/>
                </a:solidFill>
                <a:latin typeface="AGaramond BoldItalic"/>
              </a:rPr>
              <a:t>Marco Abate</a:t>
            </a:r>
            <a:endParaRPr b="0" lang="en-US" sz="12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30960" y="10555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53d2c"/>
                </a:solidFill>
                <a:latin typeface="AGaramond BoldItalic"/>
              </a:rPr>
              <a:t>Pisa, 5 aprile 2005</a:t>
            </a:r>
            <a:endParaRPr b="0" lang="en-US" sz="12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26" name="" descr=""/>
          <p:cNvPicPr/>
          <p:nvPr/>
        </p:nvPicPr>
        <p:blipFill>
          <a:blip r:embed="rId4"/>
          <a:stretch/>
        </p:blipFill>
        <p:spPr>
          <a:xfrm>
            <a:off x="0" y="228600"/>
            <a:ext cx="87156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2640" y="2133360"/>
            <a:ext cx="887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f271f"/>
                </a:solidFill>
                <a:latin typeface="Copperplate Gothic Light"/>
              </a:rPr>
              <a:t>Click to edit the title text format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782280" y="6248520"/>
            <a:ext cx="217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f271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271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566880" y="6248520"/>
            <a:ext cx="33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f271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271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481520" y="6248520"/>
            <a:ext cx="217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f271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38D8-3242-4350-A99F-29293EB22B9E}" type="slidenum">
              <a:rPr b="0" lang="en-US" sz="1400" spc="-1" strike="noStrike">
                <a:solidFill>
                  <a:srgbClr val="cf271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51000" y="6780240"/>
            <a:ext cx="9737640" cy="74520"/>
            <a:chOff x="351000" y="6780240"/>
            <a:chExt cx="9737640" cy="74520"/>
          </a:xfrm>
        </p:grpSpPr>
        <p:sp>
          <p:nvSpPr>
            <p:cNvPr id="68" name=""/>
            <p:cNvSpPr/>
            <p:nvPr/>
          </p:nvSpPr>
          <p:spPr>
            <a:xfrm>
              <a:off x="957240" y="6780240"/>
              <a:ext cx="608040" cy="74520"/>
            </a:xfrm>
            <a:prstGeom prst="rect">
              <a:avLst/>
            </a:prstGeom>
            <a:solidFill>
              <a:srgbClr val="949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000" y="6780240"/>
              <a:ext cx="607680" cy="74520"/>
            </a:xfrm>
            <a:prstGeom prst="rect">
              <a:avLst/>
            </a:prstGeom>
            <a:solidFill>
              <a:srgbClr val="aa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74760" y="6780240"/>
              <a:ext cx="608040" cy="74520"/>
            </a:xfrm>
            <a:prstGeom prst="rect">
              <a:avLst/>
            </a:prstGeom>
            <a:solidFill>
              <a:srgbClr val="328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66720" y="6780240"/>
              <a:ext cx="608040" cy="74520"/>
            </a:xfrm>
            <a:prstGeom prst="rect">
              <a:avLst/>
            </a:prstGeom>
            <a:solidFill>
              <a:srgbClr val="58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92640" y="6780240"/>
              <a:ext cx="608040" cy="74520"/>
            </a:xfrm>
            <a:prstGeom prst="rect">
              <a:avLst/>
            </a:prstGeom>
            <a:solidFill>
              <a:srgbClr val="9a8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81360" y="6780240"/>
              <a:ext cx="608040" cy="74520"/>
            </a:xfrm>
            <a:prstGeom prst="rect">
              <a:avLst/>
            </a:prstGeom>
            <a:solidFill>
              <a:srgbClr val="3a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10160" y="6780240"/>
              <a:ext cx="608040" cy="74520"/>
            </a:xfrm>
            <a:prstGeom prst="rect">
              <a:avLst/>
            </a:prstGeom>
            <a:solidFill>
              <a:srgbClr val="da9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03560" y="6780240"/>
              <a:ext cx="608040" cy="74520"/>
            </a:xfrm>
            <a:prstGeom prst="rect">
              <a:avLst/>
            </a:prstGeom>
            <a:solidFill>
              <a:srgbClr val="705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27680" y="6780240"/>
              <a:ext cx="608040" cy="74520"/>
            </a:xfrm>
            <a:prstGeom prst="rect">
              <a:avLst/>
            </a:prstGeom>
            <a:solidFill>
              <a:srgbClr val="b6b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18200" y="6780240"/>
              <a:ext cx="609480" cy="74520"/>
            </a:xfrm>
            <a:prstGeom prst="rect">
              <a:avLst/>
            </a:prstGeom>
            <a:solidFill>
              <a:srgbClr val="f5dd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45200" y="6780240"/>
              <a:ext cx="608040" cy="74520"/>
            </a:xfrm>
            <a:prstGeom prst="rect">
              <a:avLst/>
            </a:prstGeom>
            <a:solidFill>
              <a:srgbClr val="929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34280" y="6780240"/>
              <a:ext cx="609480" cy="74520"/>
            </a:xfrm>
            <a:prstGeom prst="rect">
              <a:avLst/>
            </a:prstGeom>
            <a:solidFill>
              <a:srgbClr val="b3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63080" y="6780240"/>
              <a:ext cx="608040" cy="74520"/>
            </a:xfrm>
            <a:prstGeom prst="rect">
              <a:avLst/>
            </a:prstGeom>
            <a:solidFill>
              <a:srgbClr val="3a8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53240" y="6780240"/>
              <a:ext cx="609840" cy="74520"/>
            </a:xfrm>
            <a:prstGeom prst="rect">
              <a:avLst/>
            </a:prstGeom>
            <a:solidFill>
              <a:srgbClr val="58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80600" y="6780240"/>
              <a:ext cx="608040" cy="74520"/>
            </a:xfrm>
            <a:prstGeom prst="rect">
              <a:avLst/>
            </a:prstGeom>
            <a:solidFill>
              <a:srgbClr val="9b8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872560" y="6780240"/>
              <a:ext cx="609480" cy="74520"/>
            </a:xfrm>
            <a:prstGeom prst="rect">
              <a:avLst/>
            </a:prstGeom>
            <a:solidFill>
              <a:srgbClr val="39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10436400" cy="1460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22000" y="1604520"/>
            <a:ext cx="939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a4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4fa4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a4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4fa4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988b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a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94572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f4fa4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f4fa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f4fa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image" Target="../media/image30.pct"/><Relationship Id="rId5" Type="http://schemas.openxmlformats.org/officeDocument/2006/relationships/image" Target="../media/image31.pct"/><Relationship Id="rId6" Type="http://schemas.openxmlformats.org/officeDocument/2006/relationships/image" Target="../media/image32.pct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image" Target="../media/image25.pct"/><Relationship Id="rId4" Type="http://schemas.openxmlformats.org/officeDocument/2006/relationships/image" Target="../media/image35.pct"/><Relationship Id="rId5" Type="http://schemas.openxmlformats.org/officeDocument/2006/relationships/image" Target="../media/image36.pct"/><Relationship Id="rId6" Type="http://schemas.openxmlformats.org/officeDocument/2006/relationships/image" Target="../media/image37.pct"/><Relationship Id="rId7" Type="http://schemas.openxmlformats.org/officeDocument/2006/relationships/image" Target="../media/image38.pct"/><Relationship Id="rId8" Type="http://schemas.openxmlformats.org/officeDocument/2006/relationships/image" Target="../media/image39.pct"/><Relationship Id="rId9" Type="http://schemas.openxmlformats.org/officeDocument/2006/relationships/image" Target="../media/image40.pct"/><Relationship Id="rId10" Type="http://schemas.openxmlformats.org/officeDocument/2006/relationships/image" Target="../media/image41.pct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9200" y="25416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f101d"/>
                </a:solidFill>
                <a:latin typeface="Copperplate Gothic Light"/>
              </a:rPr>
              <a:t>Perché</a:t>
            </a:r>
            <a:r>
              <a:rPr b="1" i="1" lang="en-US" sz="4800" spc="-1" strike="noStrike">
                <a:solidFill>
                  <a:srgbClr val="cf101d"/>
                </a:solidFill>
                <a:latin typeface="Copperplate Gothic Light"/>
              </a:rPr>
              <a:t> NOBEL?</a:t>
            </a:r>
            <a:endParaRPr b="0" lang="en-US" sz="4800" spc="-1" strike="noStrike">
              <a:solidFill>
                <a:srgbClr val="f4fa41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25280" y="2338920"/>
            <a:ext cx="3970800" cy="3294720"/>
            <a:chOff x="1025280" y="2338920"/>
            <a:chExt cx="3970800" cy="3294720"/>
          </a:xfrm>
        </p:grpSpPr>
        <p:sp>
          <p:nvSpPr>
            <p:cNvPr id="131" name=""/>
            <p:cNvSpPr/>
            <p:nvPr/>
          </p:nvSpPr>
          <p:spPr>
            <a:xfrm>
              <a:off x="1065600" y="4564800"/>
              <a:ext cx="3890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3b05"/>
                  </a:solidFill>
                  <a:latin typeface="Copperplate Gothic Bold"/>
                </a:rPr>
                <a:t>Il </a:t>
              </a:r>
              <a:r>
                <a:rPr b="0" i="1" lang="it-IT" sz="3200" spc="-1" strike="noStrike">
                  <a:solidFill>
                    <a:srgbClr val="f4fa41"/>
                  </a:solidFill>
                  <a:latin typeface="Copperplate Gothic Bold"/>
                </a:rPr>
                <a:t>Premio Abel</a:t>
              </a:r>
              <a:r>
                <a:rPr b="0" i="1" lang="it-IT" sz="3200" spc="-1" strike="noStrike">
                  <a:solidFill>
                    <a:srgbClr val="ff3b05"/>
                  </a:solidFill>
                  <a:latin typeface="Copperplate Gothic Bold"/>
                </a:rPr>
                <a:t> </a:t>
              </a:r>
              <a:r>
                <a:rPr b="0" lang="it-IT" sz="3200" spc="-1" strike="noStrike">
                  <a:solidFill>
                    <a:srgbClr val="ff3b05"/>
                  </a:solidFill>
                  <a:latin typeface="Copperplate Gothic Bold"/>
                </a:rPr>
                <a:t>2004</a:t>
              </a:r>
              <a:endParaRPr b="0" lang="en-US" sz="32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3b05"/>
                  </a:solidFill>
                  <a:latin typeface="Copperplate Gothic Bold"/>
                </a:rPr>
                <a:t>per la </a:t>
              </a:r>
              <a:r>
                <a:rPr b="1" i="1" lang="it-IT" sz="3200" spc="-1" strike="noStrike">
                  <a:solidFill>
                    <a:srgbClr val="f4fa41"/>
                  </a:solidFill>
                  <a:latin typeface="Copperplate Gothic Bold"/>
                </a:rPr>
                <a:t>Matematica</a:t>
              </a:r>
              <a:r>
                <a:rPr b="1" i="1" lang="it-IT" sz="3200" spc="-1" strike="noStrike">
                  <a:solidFill>
                    <a:srgbClr val="e63306"/>
                  </a:solidFill>
                  <a:latin typeface="Copperplate Gothic Bold"/>
                </a:rPr>
                <a:t>?</a:t>
              </a:r>
              <a:endParaRPr b="0" lang="en-US" sz="32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25280" y="2338920"/>
              <a:ext cx="3970800" cy="20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cf101d"/>
                  </a:solidFill>
                  <a:latin typeface="Copperplate Gothic Light"/>
                </a:rPr>
                <a:t>Perché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ffe707"/>
                  </a:solidFill>
                  <a:latin typeface="Apple Chancery"/>
                </a:rPr>
                <a:t>Michael F. Atiyah</a:t>
              </a:r>
              <a:endParaRPr b="0" lang="en-US" sz="36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cf101d"/>
                  </a:solidFill>
                  <a:latin typeface="Copperplate Gothic Light"/>
                </a:rPr>
                <a:t>e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ffe707"/>
                  </a:solidFill>
                  <a:latin typeface="Apple Chancery"/>
                </a:rPr>
                <a:t>Isadore M. Singer</a:t>
              </a:r>
              <a:endParaRPr b="0" lang="en-US" sz="36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cf101d"/>
                  </a:solidFill>
                  <a:latin typeface="Copperplate Gothic Light"/>
                </a:rPr>
                <a:t>hanno vinto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37400" y="2128680"/>
            <a:ext cx="3984480" cy="3557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5880" y="62960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3d2c"/>
                </a:solidFill>
                <a:latin typeface="AGaramond BoldItalic"/>
              </a:rPr>
              <a:t>Marco Abate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41840" y="629604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3d2c"/>
                </a:solidFill>
                <a:latin typeface="AGaramond BoldItalic"/>
              </a:rPr>
              <a:t>Pisa, 5 aprile 2005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38480" y="1737720"/>
            <a:ext cx="236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63306"/>
                </a:solidFill>
                <a:latin typeface="Skia"/>
              </a:rPr>
              <a:t>Teorema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77" name=""/>
          <p:cNvSpPr/>
          <p:nvPr/>
        </p:nvSpPr>
        <p:spPr>
          <a:xfrm>
            <a:off x="917640" y="2416320"/>
            <a:ext cx="8610480" cy="1904760"/>
          </a:xfrm>
          <a:prstGeom prst="rect">
            <a:avLst/>
          </a:prstGeom>
          <a:noFill/>
          <a:ln w="38160">
            <a:solidFill>
              <a:srgbClr val="753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Sia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 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una superficie compatta, provvista di una triangolazione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T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.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Allora il numero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¬ 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S 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) = </a:t>
            </a:r>
            <a:r>
              <a:rPr b="0" lang="it-IT" sz="2000" spc="-1" strike="noStrike">
                <a:solidFill>
                  <a:srgbClr val="2ee62e"/>
                </a:solidFill>
                <a:latin typeface="AGaramond"/>
              </a:rPr>
              <a:t>facce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T  </a:t>
            </a:r>
            <a:r>
              <a:rPr b="0" lang="it-IT" sz="2000" spc="-1" strike="noStrike">
                <a:solidFill>
                  <a:srgbClr val="2ee62e"/>
                </a:solidFill>
                <a:latin typeface="AGaramond"/>
              </a:rPr>
              <a:t>) – lati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T  </a:t>
            </a:r>
            <a:r>
              <a:rPr b="0" lang="it-IT" sz="2000" spc="-1" strike="noStrike">
                <a:solidFill>
                  <a:srgbClr val="2ee62e"/>
                </a:solidFill>
                <a:latin typeface="AGaramond"/>
              </a:rPr>
              <a:t>) + vertici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T  </a:t>
            </a:r>
            <a:r>
              <a:rPr b="0" lang="it-IT" sz="2000" spc="-1" strike="noStrike">
                <a:solidFill>
                  <a:srgbClr val="2ee62e"/>
                </a:solidFill>
                <a:latin typeface="AGaramond"/>
              </a:rPr>
              <a:t>)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non dipende dalla triangolazione scelta, ma solo dalla superficie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.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Inoltre, se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2000" spc="-1" strike="noStrike" baseline="-25000">
                <a:solidFill>
                  <a:srgbClr val="f4fa41"/>
                </a:solidFill>
                <a:latin typeface="cmr10"/>
              </a:rPr>
              <a:t>1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è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un’altra superficie omeomorfa a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,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allora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¬ 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 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) =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¬ 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2000" spc="-1" strike="noStrike" baseline="-25000">
                <a:solidFill>
                  <a:srgbClr val="f4fa41"/>
                </a:solidFill>
                <a:latin typeface="cmr10"/>
              </a:rPr>
              <a:t>1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.</a:t>
            </a:r>
            <a:r>
              <a:rPr b="0" lang="it-IT" sz="2000" spc="-1" strike="noStrike">
                <a:solidFill>
                  <a:srgbClr val="cf101d"/>
                </a:solidFill>
                <a:latin typeface="cmr17"/>
              </a:rPr>
              <a:t> 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1920" y="4724280"/>
            <a:ext cx="816336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Il numero </a:t>
            </a:r>
            <a:r>
              <a:rPr b="0" lang="it-IT" sz="1800" spc="-1" strike="noStrike">
                <a:solidFill>
                  <a:srgbClr val="f4fa41"/>
                </a:solidFill>
                <a:latin typeface="cmmi12"/>
              </a:rPr>
              <a:t>¬ </a:t>
            </a:r>
            <a:r>
              <a:rPr b="0" lang="it-IT" sz="18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1800" spc="-1" strike="noStrike">
                <a:solidFill>
                  <a:srgbClr val="f4fa41"/>
                </a:solidFill>
                <a:latin typeface="cmmi12"/>
              </a:rPr>
              <a:t>S </a:t>
            </a:r>
            <a:r>
              <a:rPr b="0" lang="it-IT" sz="1800" spc="-1" strike="noStrike">
                <a:solidFill>
                  <a:srgbClr val="f4fa41"/>
                </a:solidFill>
                <a:latin typeface="cmr17"/>
              </a:rPr>
              <a:t>) 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è detto</a:t>
            </a:r>
            <a:r>
              <a:rPr b="0" lang="it-IT" sz="1800" spc="-1" strike="noStrike">
                <a:solidFill>
                  <a:srgbClr val="cf101d"/>
                </a:solidFill>
                <a:latin typeface="AGaramond"/>
              </a:rPr>
              <a:t> </a:t>
            </a:r>
            <a:r>
              <a:rPr b="0" lang="it-IT" sz="1800" spc="-1" strike="noStrike">
                <a:solidFill>
                  <a:srgbClr val="2ee62e"/>
                </a:solidFill>
                <a:latin typeface="AGaramond BoldItalic"/>
              </a:rPr>
              <a:t>caratteristica di Eulero-Poincaré</a:t>
            </a:r>
            <a:r>
              <a:rPr b="0" lang="it-IT" sz="1800" spc="-1" strike="noStrike">
                <a:solidFill>
                  <a:srgbClr val="cf101d"/>
                </a:solidFill>
                <a:latin typeface="AGaramond BoldItalic"/>
              </a:rPr>
              <a:t> 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della superficie </a:t>
            </a:r>
            <a:r>
              <a:rPr b="0" lang="it-IT" sz="18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.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È un oggetto </a:t>
            </a:r>
            <a:r>
              <a:rPr b="0" lang="it-IT" sz="1800" spc="-1" strike="noStrike">
                <a:solidFill>
                  <a:srgbClr val="e63306"/>
                </a:solidFill>
                <a:latin typeface="AGaramond BoldItalic"/>
              </a:rPr>
              <a:t>globale</a:t>
            </a:r>
            <a:r>
              <a:rPr b="0" lang="it-IT" sz="1800" spc="-1" strike="noStrike">
                <a:solidFill>
                  <a:srgbClr val="f4fa41"/>
                </a:solidFill>
                <a:latin typeface="AGaramond BoldItalic"/>
              </a:rPr>
              <a:t> 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e </a:t>
            </a:r>
            <a:r>
              <a:rPr b="0" lang="it-IT" sz="1800" spc="-1" strike="noStrike">
                <a:solidFill>
                  <a:srgbClr val="e63306"/>
                </a:solidFill>
                <a:latin typeface="AGaramond BoldItalic"/>
              </a:rPr>
              <a:t>qualitativo (topologico)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 associato alla superficie.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46760" y="5943600"/>
            <a:ext cx="59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63306"/>
                </a:solidFill>
                <a:latin typeface="AGaramond BoldItalic"/>
              </a:rPr>
              <a:t>Poincaré: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¬ 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S 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) = dim 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H </a:t>
            </a:r>
            <a:r>
              <a:rPr b="0" lang="it-IT" sz="1600" spc="-1" strike="noStrike" baseline="30000">
                <a:solidFill>
                  <a:srgbClr val="f4fa41"/>
                </a:solidFill>
                <a:latin typeface="cmr17"/>
              </a:rPr>
              <a:t>2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, </a:t>
            </a:r>
            <a:r>
              <a:rPr b="0" lang="it-IT" sz="1600" spc="-1" strike="noStrike">
                <a:solidFill>
                  <a:srgbClr val="f4fa41"/>
                </a:solidFill>
                <a:latin typeface="msbm10"/>
              </a:rPr>
              <a:t>R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) 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– dim 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H </a:t>
            </a:r>
            <a:r>
              <a:rPr b="0" lang="it-IT" sz="1600" spc="-1" strike="noStrike" baseline="30000">
                <a:solidFill>
                  <a:srgbClr val="f4fa41"/>
                </a:solidFill>
                <a:latin typeface="cmr17"/>
              </a:rPr>
              <a:t>1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, </a:t>
            </a:r>
            <a:r>
              <a:rPr b="0" lang="it-IT" sz="1600" spc="-1" strike="noStrike">
                <a:solidFill>
                  <a:srgbClr val="f4fa41"/>
                </a:solidFill>
                <a:latin typeface="msbm10"/>
              </a:rPr>
              <a:t>R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 + dim 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H </a:t>
            </a:r>
            <a:r>
              <a:rPr b="0" lang="it-IT" sz="1600" spc="-1" strike="noStrike" baseline="30000">
                <a:solidFill>
                  <a:srgbClr val="f4fa41"/>
                </a:solidFill>
                <a:latin typeface="cmr17"/>
              </a:rPr>
              <a:t>0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16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, </a:t>
            </a:r>
            <a:r>
              <a:rPr b="0" lang="it-IT" sz="1600" spc="-1" strike="noStrike">
                <a:solidFill>
                  <a:srgbClr val="f4fa41"/>
                </a:solidFill>
                <a:latin typeface="msbm10"/>
              </a:rPr>
              <a:t>R</a:t>
            </a:r>
            <a:r>
              <a:rPr b="0" lang="it-IT" sz="16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it-IT" sz="1600" spc="-1" strike="noStrike" baseline="30000">
                <a:solidFill>
                  <a:srgbClr val="f4fa41"/>
                </a:solidFill>
                <a:latin typeface="cmmi12"/>
              </a:rPr>
              <a:t> </a:t>
            </a:r>
            <a:r>
              <a:rPr b="0" lang="it-IT" sz="1600" spc="-1" strike="noStrike">
                <a:solidFill>
                  <a:srgbClr val="f4fa41"/>
                </a:solidFill>
                <a:latin typeface="AGaramond"/>
              </a:rPr>
              <a:t>.</a:t>
            </a:r>
            <a:endParaRPr b="0" lang="en-US" sz="16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90840" y="1538640"/>
            <a:ext cx="3657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63306"/>
                </a:solidFill>
                <a:latin typeface="Skia"/>
              </a:rPr>
              <a:t>Curvatura Gaussiana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81520" y="2514600"/>
            <a:ext cx="3919680" cy="3600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20200" y="3298680"/>
            <a:ext cx="4641120" cy="21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buClr>
                <a:srgbClr val="f4fa41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Un </a:t>
            </a:r>
            <a:r>
              <a:rPr b="0" lang="en-US" sz="2000" spc="-1" strike="noStrike">
                <a:solidFill>
                  <a:srgbClr val="ff3b05"/>
                </a:solidFill>
                <a:latin typeface="AGaramond"/>
              </a:rPr>
              <a:t>piano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ha curvatura </a:t>
            </a:r>
            <a:r>
              <a:rPr b="0" lang="en-US" sz="2000" spc="-1" strike="noStrike">
                <a:solidFill>
                  <a:srgbClr val="2ee62e"/>
                </a:solidFill>
                <a:latin typeface="AGaramond"/>
              </a:rPr>
              <a:t>0.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buClr>
                <a:srgbClr val="f4fa41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Una </a:t>
            </a:r>
            <a:r>
              <a:rPr b="0" lang="en-US" sz="2000" spc="-1" strike="noStrike">
                <a:solidFill>
                  <a:srgbClr val="ff3b05"/>
                </a:solidFill>
                <a:latin typeface="AGaramond"/>
              </a:rPr>
              <a:t>sfera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di raggio </a:t>
            </a:r>
            <a:r>
              <a:rPr b="0" lang="en-US" sz="2000" spc="-1" strike="noStrike">
                <a:solidFill>
                  <a:srgbClr val="ff3b05"/>
                </a:solidFill>
                <a:latin typeface="AGaramond"/>
              </a:rPr>
              <a:t>1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ha curvatura </a:t>
            </a:r>
            <a:r>
              <a:rPr b="0" lang="en-US" sz="2000" spc="-1" strike="noStrike">
                <a:solidFill>
                  <a:srgbClr val="2ee62e"/>
                </a:solidFill>
                <a:latin typeface="AGaramond"/>
              </a:rPr>
              <a:t>1.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buClr>
                <a:srgbClr val="f4fa41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Una </a:t>
            </a:r>
            <a:r>
              <a:rPr b="0" lang="en-US" sz="2000" spc="-1" strike="noStrike">
                <a:solidFill>
                  <a:srgbClr val="ff3b05"/>
                </a:solidFill>
                <a:latin typeface="AGaramond"/>
              </a:rPr>
              <a:t>sfera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di raggio </a:t>
            </a:r>
            <a:r>
              <a:rPr b="0" lang="en-US" sz="2000" spc="-1" strike="noStrike">
                <a:solidFill>
                  <a:srgbClr val="ff3b05"/>
                </a:solidFill>
                <a:latin typeface="cmmi12"/>
              </a:rPr>
              <a:t>R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ha curvatura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e62e"/>
                </a:solidFill>
                <a:latin typeface="cmmi12"/>
              </a:rPr>
              <a:t>K</a:t>
            </a:r>
            <a:r>
              <a:rPr b="0" lang="en-US" sz="2400" spc="-1" strike="noStrike">
                <a:solidFill>
                  <a:srgbClr val="2ee62e"/>
                </a:solidFill>
                <a:latin typeface="AGaramond"/>
              </a:rPr>
              <a:t> = 1/</a:t>
            </a:r>
            <a:r>
              <a:rPr b="0" lang="en-US" sz="2400" spc="-1" strike="noStrike">
                <a:solidFill>
                  <a:srgbClr val="2ee62e"/>
                </a:solidFill>
                <a:latin typeface="cmmi12"/>
              </a:rPr>
              <a:t>R</a:t>
            </a:r>
            <a:r>
              <a:rPr b="0" lang="en-US" sz="2400" spc="-1" strike="noStrike" baseline="30000">
                <a:solidFill>
                  <a:srgbClr val="2ee62e"/>
                </a:solidFill>
                <a:latin typeface="cmr17"/>
              </a:rPr>
              <a:t>2</a:t>
            </a:r>
            <a:r>
              <a:rPr b="0" lang="en-US" sz="2400" spc="-1" strike="noStrike">
                <a:solidFill>
                  <a:srgbClr val="2ee62e"/>
                </a:solidFill>
                <a:latin typeface="cmr17"/>
              </a:rPr>
              <a:t>.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Macintosh HD:Users:marcoabate:Presentazioni:Divulgazione:Nobel:Immagini Nobel:filmati:sella.mov" descr=""/>
          <p:cNvPicPr/>
          <p:nvPr/>
        </p:nvPicPr>
        <p:blipFill>
          <a:blip r:embed="rId1"/>
          <a:stretch/>
        </p:blipFill>
        <p:spPr>
          <a:xfrm>
            <a:off x="5459400" y="2508120"/>
            <a:ext cx="4502160" cy="3238560"/>
          </a:xfrm>
          <a:prstGeom prst="rect">
            <a:avLst/>
          </a:prstGeom>
          <a:ln w="0">
            <a:noFill/>
          </a:ln>
        </p:spPr>
      </p:pic>
      <p:pic>
        <p:nvPicPr>
          <p:cNvPr id="184" name="Macintosh HD:Users:marcoabate:Presentazioni:Divulgazione:Nobel:Immagini Nobel:filmati:parab.mov" descr=""/>
          <p:cNvPicPr/>
          <p:nvPr/>
        </p:nvPicPr>
        <p:blipFill>
          <a:blip r:embed="rId2"/>
          <a:stretch/>
        </p:blipFill>
        <p:spPr>
          <a:xfrm>
            <a:off x="479520" y="2514600"/>
            <a:ext cx="4502160" cy="3238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390840" y="153864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63306"/>
                </a:solidFill>
                <a:latin typeface="Skia"/>
              </a:rPr>
              <a:t>Curvatura Gaussiana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60320" y="2516040"/>
            <a:ext cx="3940200" cy="3237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095880" y="2519280"/>
            <a:ext cx="3514680" cy="3240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92840" y="597384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e62e"/>
                </a:solidFill>
                <a:latin typeface="cmmi12"/>
              </a:rPr>
              <a:t>K &gt; </a:t>
            </a:r>
            <a:r>
              <a:rPr b="0" lang="en-US" sz="2400" spc="-1" strike="noStrike">
                <a:solidFill>
                  <a:srgbClr val="2ee62e"/>
                </a:solidFill>
                <a:latin typeface="cmr17"/>
              </a:rPr>
              <a:t>0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09160" y="597384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e62e"/>
                </a:solidFill>
                <a:latin typeface="cmmi12"/>
              </a:rPr>
              <a:t>K &lt; </a:t>
            </a:r>
            <a:r>
              <a:rPr b="0" lang="en-US" sz="2400" spc="-1" strike="noStrike">
                <a:solidFill>
                  <a:srgbClr val="2ee62e"/>
                </a:solidFill>
                <a:latin typeface="cmr17"/>
              </a:rPr>
              <a:t>0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390840" y="153864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63306"/>
                </a:solidFill>
                <a:latin typeface="Skia"/>
              </a:rPr>
              <a:t>Curvatura Gaussiana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191" name="Macintosh HD:Users:marcoabate:Presentazioni:Divulgazione:Nobel:Curvatura Folder:campoell.mov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5002200" cy="3597120"/>
          </a:xfrm>
          <a:prstGeom prst="rect">
            <a:avLst/>
          </a:prstGeom>
          <a:ln w="0">
            <a:noFill/>
          </a:ln>
        </p:spPr>
      </p:pic>
      <p:pic>
        <p:nvPicPr>
          <p:cNvPr id="192" name="Macintosh HD:Users:marcoabate:Presentazioni:Divulgazione:Nobel:Curvatura Folder:sellatilt.mov" descr=""/>
          <p:cNvPicPr/>
          <p:nvPr/>
        </p:nvPicPr>
        <p:blipFill>
          <a:blip r:embed="rId2"/>
          <a:stretch/>
        </p:blipFill>
        <p:spPr>
          <a:xfrm>
            <a:off x="5257800" y="2590920"/>
            <a:ext cx="5002200" cy="3597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402280" y="624852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e62e"/>
                </a:solidFill>
                <a:latin typeface="cmmi12"/>
              </a:rPr>
              <a:t>K &gt; </a:t>
            </a:r>
            <a:r>
              <a:rPr b="0" lang="en-US" sz="2400" spc="-1" strike="noStrike">
                <a:solidFill>
                  <a:srgbClr val="2ee62e"/>
                </a:solidFill>
                <a:latin typeface="cmr17"/>
              </a:rPr>
              <a:t>1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24520" y="6278400"/>
            <a:ext cx="18687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ee62e"/>
                </a:solidFill>
                <a:latin typeface="cmsy10"/>
              </a:rPr>
              <a:t>j</a:t>
            </a:r>
            <a:r>
              <a:rPr b="0" lang="it-IT" sz="2400" spc="-1" strike="noStrike">
                <a:solidFill>
                  <a:srgbClr val="2ee62e"/>
                </a:solidFill>
                <a:latin typeface="cmmi12"/>
              </a:rPr>
              <a:t>K</a:t>
            </a:r>
            <a:r>
              <a:rPr b="0" lang="it-IT" sz="2400" spc="-1" strike="noStrike">
                <a:solidFill>
                  <a:srgbClr val="2ee62e"/>
                </a:solidFill>
                <a:latin typeface="cmsy10"/>
              </a:rPr>
              <a:t>j</a:t>
            </a:r>
            <a:r>
              <a:rPr b="0" lang="it-IT" sz="2400" spc="-1" strike="noStrike">
                <a:solidFill>
                  <a:srgbClr val="2ee62e"/>
                </a:solidFill>
                <a:latin typeface="cmmi12"/>
              </a:rPr>
              <a:t> &lt; </a:t>
            </a:r>
            <a:r>
              <a:rPr b="0" lang="it-IT" sz="2400" spc="-1" strike="noStrike">
                <a:solidFill>
                  <a:srgbClr val="2ee62e"/>
                </a:solidFill>
                <a:latin typeface="cmr17"/>
              </a:rPr>
              <a:t>1, </a:t>
            </a:r>
            <a:r>
              <a:rPr b="0" lang="it-IT" sz="2400" spc="-1" strike="noStrike">
                <a:solidFill>
                  <a:srgbClr val="2ee62e"/>
                </a:solidFill>
                <a:latin typeface="cmmi12"/>
              </a:rPr>
              <a:t>K &lt; </a:t>
            </a:r>
            <a:r>
              <a:rPr b="0" lang="it-IT" sz="2400" spc="-1" strike="noStrike">
                <a:solidFill>
                  <a:srgbClr val="2ee62e"/>
                </a:solidFill>
                <a:latin typeface="cmr17"/>
              </a:rPr>
              <a:t>0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95280" y="2590920"/>
            <a:ext cx="3090960" cy="3598920"/>
            <a:chOff x="1295280" y="2590920"/>
            <a:chExt cx="3090960" cy="3598920"/>
          </a:xfrm>
        </p:grpSpPr>
        <p:grpSp>
          <p:nvGrpSpPr>
            <p:cNvPr id="196" name=""/>
            <p:cNvGrpSpPr/>
            <p:nvPr/>
          </p:nvGrpSpPr>
          <p:grpSpPr>
            <a:xfrm>
              <a:off x="1295280" y="2590920"/>
              <a:ext cx="3090960" cy="3598920"/>
              <a:chOff x="1295280" y="2590920"/>
              <a:chExt cx="3090960" cy="3598920"/>
            </a:xfrm>
          </p:grpSpPr>
          <p:pic>
            <p:nvPicPr>
              <p:cNvPr id="1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95280" y="2590920"/>
                <a:ext cx="3090960" cy="359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 flipH="1" rot="5400000">
                <a:off x="3186720" y="3670200"/>
                <a:ext cx="650880" cy="625320"/>
              </a:xfrm>
              <a:custGeom>
                <a:avLst/>
                <a:gdLst>
                  <a:gd name="textAreaLeft" fmla="*/ 360 w 650880"/>
                  <a:gd name="textAreaRight" fmla="*/ 651600 w 650880"/>
                  <a:gd name="textAreaTop" fmla="*/ 0 h 625320"/>
                  <a:gd name="textAreaBottom" fmla="*/ 625680 h 62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8916" stAng="10800000" swAng="5400000"/>
                    <a:lnTo>
                      <a:pt x="12427" y="3244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8914"/>
                    </a:lnTo>
                    <a:lnTo>
                      <a:pt x="12427" y="8914"/>
                    </a:lnTo>
                    <a:arcTo wR="6757" hR="3246" stAng="16200000" swAng="-5400000"/>
                    <a:lnTo>
                      <a:pt x="5670" y="21600"/>
                    </a:lnTo>
                    <a:close/>
                  </a:path>
                </a:pathLst>
              </a:custGeom>
              <a:solidFill>
                <a:srgbClr val="39a6a8"/>
              </a:solidFill>
              <a:ln w="28440">
                <a:solidFill>
                  <a:srgbClr val="0002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4fa41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3086640" y="373392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285"/>
                  </a:solidFill>
                  <a:latin typeface="cmmi12"/>
                </a:rPr>
                <a:t>N</a:t>
              </a:r>
              <a:endParaRPr b="0" lang="en-US" sz="18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918040" y="3594240"/>
            <a:ext cx="3573720" cy="1800000"/>
            <a:chOff x="5918040" y="3594240"/>
            <a:chExt cx="3573720" cy="1800000"/>
          </a:xfrm>
        </p:grpSpPr>
        <p:grpSp>
          <p:nvGrpSpPr>
            <p:cNvPr id="201" name=""/>
            <p:cNvGrpSpPr/>
            <p:nvPr/>
          </p:nvGrpSpPr>
          <p:grpSpPr>
            <a:xfrm>
              <a:off x="5918040" y="3594240"/>
              <a:ext cx="3573720" cy="1800000"/>
              <a:chOff x="5918040" y="3594240"/>
              <a:chExt cx="3573720" cy="1800000"/>
            </a:xfrm>
          </p:grpSpPr>
          <p:pic>
            <p:nvPicPr>
              <p:cNvPr id="2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8040" y="3594240"/>
                <a:ext cx="3573720" cy="180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flipH="1" rot="5400000">
                <a:off x="8419320" y="4762080"/>
                <a:ext cx="446040" cy="522360"/>
              </a:xfrm>
              <a:custGeom>
                <a:avLst/>
                <a:gdLst>
                  <a:gd name="textAreaLeft" fmla="*/ -360 w 446040"/>
                  <a:gd name="textAreaRight" fmla="*/ 446040 w 446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39a6a8"/>
              </a:solidFill>
              <a:ln w="19080">
                <a:solidFill>
                  <a:srgbClr val="0002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4fa41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8839440" y="486396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285"/>
                  </a:solidFill>
                  <a:latin typeface="cmmi12"/>
                </a:rPr>
                <a:t>N</a:t>
              </a:r>
              <a:endParaRPr b="0" lang="en-US" sz="18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71320" y="6248520"/>
            <a:ext cx="9296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La </a:t>
            </a:r>
            <a:r>
              <a:rPr b="0" lang="it-IT" sz="1800" spc="-1" strike="noStrike">
                <a:solidFill>
                  <a:srgbClr val="2ee62e"/>
                </a:solidFill>
                <a:latin typeface="AGaramond BoldItalic"/>
              </a:rPr>
              <a:t>curvatura Gaussiana</a:t>
            </a:r>
            <a:r>
              <a:rPr b="0" lang="it-IT" sz="1800" spc="-1" strike="noStrike">
                <a:solidFill>
                  <a:srgbClr val="cf101d"/>
                </a:solidFill>
                <a:latin typeface="AGaramond BoldItalic"/>
              </a:rPr>
              <a:t> 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è un oggetto </a:t>
            </a:r>
            <a:r>
              <a:rPr b="0" lang="it-IT" sz="1800" spc="-1" strike="noStrike">
                <a:solidFill>
                  <a:srgbClr val="e63306"/>
                </a:solidFill>
                <a:latin typeface="AGaramond BoldItalic"/>
              </a:rPr>
              <a:t>locale</a:t>
            </a:r>
            <a:r>
              <a:rPr b="0" lang="it-IT" sz="1800" spc="-1" strike="noStrike">
                <a:solidFill>
                  <a:srgbClr val="f4fa41"/>
                </a:solidFill>
                <a:latin typeface="AGaramond BoldItalic"/>
              </a:rPr>
              <a:t> 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e </a:t>
            </a:r>
            <a:r>
              <a:rPr b="0" lang="it-IT" sz="1800" spc="-1" strike="noStrike">
                <a:solidFill>
                  <a:srgbClr val="e63306"/>
                </a:solidFill>
                <a:latin typeface="AGaramond BoldItalic"/>
              </a:rPr>
              <a:t>quantitativo (geometrico)</a:t>
            </a: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 associato alla superficie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90840" y="153864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63306"/>
                </a:solidFill>
                <a:latin typeface="Skia"/>
              </a:rPr>
              <a:t>Curvatura Gaussiana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207" name="Macintosh HD:Users:marcoabate:Presentazioni:Divulgazione:Nobel:Curvatura Folder:parab.mov" descr=""/>
          <p:cNvPicPr/>
          <p:nvPr/>
        </p:nvPicPr>
        <p:blipFill>
          <a:blip r:embed="rId1"/>
          <a:stretch/>
        </p:blipFill>
        <p:spPr>
          <a:xfrm>
            <a:off x="378000" y="2438280"/>
            <a:ext cx="4501800" cy="3238560"/>
          </a:xfrm>
          <a:prstGeom prst="rect">
            <a:avLst/>
          </a:prstGeom>
          <a:ln w="0">
            <a:noFill/>
          </a:ln>
        </p:spPr>
      </p:pic>
      <p:pic>
        <p:nvPicPr>
          <p:cNvPr id="208" name="Macintosh HD:Users:marcoabate:Presentazioni:Divulgazione:Nobel:Curvatura Folder:sella.mov" descr=""/>
          <p:cNvPicPr/>
          <p:nvPr/>
        </p:nvPicPr>
        <p:blipFill>
          <a:blip r:embed="rId2"/>
          <a:stretch/>
        </p:blipFill>
        <p:spPr>
          <a:xfrm>
            <a:off x="5459400" y="2438280"/>
            <a:ext cx="4502160" cy="323856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3301920" y="5546880"/>
            <a:ext cx="3836880" cy="572760"/>
            <a:chOff x="3301920" y="5546880"/>
            <a:chExt cx="3836880" cy="572760"/>
          </a:xfrm>
        </p:grpSpPr>
        <p:sp>
          <p:nvSpPr>
            <p:cNvPr id="210" name=""/>
            <p:cNvSpPr/>
            <p:nvPr/>
          </p:nvSpPr>
          <p:spPr>
            <a:xfrm>
              <a:off x="3301920" y="5546880"/>
              <a:ext cx="383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2ee62e"/>
                  </a:solidFill>
                  <a:latin typeface="cmmi12"/>
                </a:rPr>
                <a:t>K</a:t>
              </a:r>
              <a:r>
                <a:rPr b="0" lang="it-IT" sz="2400" spc="-1" strike="noStrike">
                  <a:solidFill>
                    <a:srgbClr val="2ee62e"/>
                  </a:solidFill>
                  <a:latin typeface="cmr17"/>
                </a:rPr>
                <a:t> = lim Area(</a:t>
              </a:r>
              <a:r>
                <a:rPr b="0" lang="it-IT" sz="2400" spc="-1" strike="noStrike">
                  <a:solidFill>
                    <a:srgbClr val="2ee62e"/>
                  </a:solidFill>
                  <a:latin typeface="cmmi12"/>
                </a:rPr>
                <a:t>N</a:t>
              </a:r>
              <a:r>
                <a:rPr b="0" lang="it-IT" sz="2400" spc="-1" strike="noStrike">
                  <a:solidFill>
                    <a:srgbClr val="2ee62e"/>
                  </a:solidFill>
                  <a:latin typeface="cmr17"/>
                </a:rPr>
                <a:t>(</a:t>
              </a:r>
              <a:r>
                <a:rPr b="0" lang="it-IT" sz="2400" spc="-1" strike="noStrike">
                  <a:solidFill>
                    <a:srgbClr val="2ee62e"/>
                  </a:solidFill>
                  <a:latin typeface="cmmi12"/>
                </a:rPr>
                <a:t>A</a:t>
              </a:r>
              <a:r>
                <a:rPr b="0" lang="it-IT" sz="2400" spc="-1" strike="noStrike">
                  <a:solidFill>
                    <a:srgbClr val="2ee62e"/>
                  </a:solidFill>
                  <a:latin typeface="cmr17"/>
                </a:rPr>
                <a:t>))/Area(</a:t>
              </a:r>
              <a:r>
                <a:rPr b="0" lang="it-IT" sz="2400" spc="-1" strike="noStrike">
                  <a:solidFill>
                    <a:srgbClr val="2ee62e"/>
                  </a:solidFill>
                  <a:latin typeface="cmmi12"/>
                </a:rPr>
                <a:t>A</a:t>
              </a:r>
              <a:r>
                <a:rPr b="0" lang="it-IT" sz="2400" spc="-1" strike="noStrike">
                  <a:solidFill>
                    <a:srgbClr val="2ee62e"/>
                  </a:solidFill>
                  <a:latin typeface="cmr17"/>
                </a:rPr>
                <a:t>)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28960" y="5854680"/>
              <a:ext cx="6080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ee62e"/>
                  </a:solidFill>
                  <a:latin typeface="cmmi12"/>
                </a:rPr>
                <a:t>A </a:t>
              </a:r>
              <a:r>
                <a:rPr b="0" lang="en-US" sz="1400" spc="-1" strike="noStrike">
                  <a:solidFill>
                    <a:srgbClr val="2ee62e"/>
                  </a:solidFill>
                  <a:latin typeface="cmsy10"/>
                </a:rPr>
                <a:t>!</a:t>
              </a:r>
              <a:r>
                <a:rPr b="0" lang="en-US" sz="1400" spc="-1" strike="noStrike">
                  <a:solidFill>
                    <a:srgbClr val="2ee62e"/>
                  </a:solidFill>
                  <a:latin typeface="cmmi12"/>
                </a:rPr>
                <a:t> </a:t>
              </a:r>
              <a:r>
                <a:rPr b="0" lang="en-US" sz="1400" spc="-1" strike="noStrike">
                  <a:solidFill>
                    <a:srgbClr val="2ee62e"/>
                  </a:solidFill>
                  <a:latin typeface="cmr17"/>
                </a:rPr>
                <a:t>0</a:t>
              </a:r>
              <a:endParaRPr b="0" lang="en-US" sz="1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25520" y="2798640"/>
            <a:ext cx="4405320" cy="2517840"/>
            <a:chOff x="425520" y="2798640"/>
            <a:chExt cx="4405320" cy="2517840"/>
          </a:xfrm>
        </p:grpSpPr>
        <p:grpSp>
          <p:nvGrpSpPr>
            <p:cNvPr id="213" name=""/>
            <p:cNvGrpSpPr/>
            <p:nvPr/>
          </p:nvGrpSpPr>
          <p:grpSpPr>
            <a:xfrm>
              <a:off x="425520" y="2798640"/>
              <a:ext cx="4405320" cy="2517840"/>
              <a:chOff x="425520" y="2798640"/>
              <a:chExt cx="4405320" cy="2517840"/>
            </a:xfrm>
          </p:grpSpPr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5520" y="2798640"/>
                <a:ext cx="4405320" cy="25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2359080" y="2895480"/>
                <a:ext cx="488880" cy="4892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489240"/>
                  <a:gd name="textAreaBottom" fmla="*/ 489240 h 48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39a6a8"/>
              </a:solidFill>
              <a:ln w="9360">
                <a:solidFill>
                  <a:srgbClr val="0002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4fa41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2057760" y="281952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285"/>
                  </a:solidFill>
                  <a:latin typeface="cmmi12"/>
                </a:rPr>
                <a:t>N</a:t>
              </a:r>
              <a:endParaRPr b="0" lang="en-US" sz="18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762520" y="2798640"/>
            <a:ext cx="3897360" cy="2517840"/>
            <a:chOff x="5762520" y="2798640"/>
            <a:chExt cx="3897360" cy="2517840"/>
          </a:xfrm>
        </p:grpSpPr>
        <p:grpSp>
          <p:nvGrpSpPr>
            <p:cNvPr id="218" name=""/>
            <p:cNvGrpSpPr/>
            <p:nvPr/>
          </p:nvGrpSpPr>
          <p:grpSpPr>
            <a:xfrm>
              <a:off x="5762520" y="2798640"/>
              <a:ext cx="3897360" cy="2517840"/>
              <a:chOff x="5762520" y="2798640"/>
              <a:chExt cx="3897360" cy="2517840"/>
            </a:xfrm>
          </p:grpSpPr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62520" y="2798640"/>
                <a:ext cx="3897360" cy="25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 flipV="1">
                <a:off x="8229600" y="4572000"/>
                <a:ext cx="488880" cy="4888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360 h 488880"/>
                  <a:gd name="textAreaBottom" fmla="*/ 489600 h 48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39a6a8"/>
              </a:solidFill>
              <a:ln w="9360">
                <a:solidFill>
                  <a:srgbClr val="0002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4fa41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8687160" y="472428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285"/>
                  </a:solidFill>
                  <a:latin typeface="cmmi12"/>
                </a:rPr>
                <a:t>N</a:t>
              </a:r>
              <a:endParaRPr b="0" lang="en-US" sz="18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01920" y="281952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285"/>
                </a:solidFill>
                <a:latin typeface="cmmi12"/>
              </a:rPr>
              <a:t>K &gt; </a:t>
            </a:r>
            <a:r>
              <a:rPr b="0" lang="en-US" sz="2400" spc="-1" strike="noStrike">
                <a:solidFill>
                  <a:srgbClr val="000285"/>
                </a:solidFill>
                <a:latin typeface="cmr17"/>
              </a:rPr>
              <a:t>1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1880" y="2825640"/>
            <a:ext cx="10447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285"/>
                </a:solidFill>
                <a:latin typeface="cmsy10"/>
              </a:rPr>
              <a:t>j</a:t>
            </a:r>
            <a:r>
              <a:rPr b="0" lang="it-IT" sz="2400" spc="-1" strike="noStrike">
                <a:solidFill>
                  <a:srgbClr val="000285"/>
                </a:solidFill>
                <a:latin typeface="cmmi12"/>
              </a:rPr>
              <a:t>K</a:t>
            </a:r>
            <a:r>
              <a:rPr b="0" lang="it-IT" sz="2400" spc="-1" strike="noStrike">
                <a:solidFill>
                  <a:srgbClr val="000285"/>
                </a:solidFill>
                <a:latin typeface="cmsy10"/>
              </a:rPr>
              <a:t>j</a:t>
            </a:r>
            <a:r>
              <a:rPr b="0" lang="it-IT" sz="2400" spc="-1" strike="noStrike">
                <a:solidFill>
                  <a:srgbClr val="000285"/>
                </a:solidFill>
                <a:latin typeface="cmmi12"/>
              </a:rPr>
              <a:t> &lt; </a:t>
            </a:r>
            <a:r>
              <a:rPr b="0" lang="it-IT" sz="2400" spc="-1" strike="noStrike">
                <a:solidFill>
                  <a:srgbClr val="000285"/>
                </a:solidFill>
                <a:latin typeface="cmr17"/>
              </a:rPr>
              <a:t>1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82640" y="1996200"/>
            <a:ext cx="887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b05"/>
                </a:solidFill>
                <a:latin typeface="Skia"/>
              </a:rPr>
              <a:t>Teorema di Gauss-Bonnet (1830 ca.)</a:t>
            </a:r>
            <a:endParaRPr b="1" i="1" lang="en-US" sz="32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225" name=""/>
          <p:cNvSpPr/>
          <p:nvPr/>
        </p:nvSpPr>
        <p:spPr>
          <a:xfrm>
            <a:off x="912960" y="3048120"/>
            <a:ext cx="8610480" cy="2286000"/>
          </a:xfrm>
          <a:prstGeom prst="rect">
            <a:avLst/>
          </a:prstGeom>
          <a:noFill/>
          <a:ln w="38160">
            <a:solidFill>
              <a:srgbClr val="753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Sia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 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una superficie compatta orientabile con curvatura Gaussiana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K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.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Allora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ee62e"/>
                </a:solidFill>
                <a:latin typeface="cmsy10"/>
              </a:rPr>
              <a:t>s</a:t>
            </a:r>
            <a:r>
              <a:rPr b="0" lang="it-IT" sz="2000" spc="-1" strike="noStrike" baseline="-25000">
                <a:solidFill>
                  <a:srgbClr val="2ee62e"/>
                </a:solidFill>
                <a:latin typeface="cmmi12"/>
              </a:rPr>
              <a:t>S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  K dx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 = 2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º¬ 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S 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),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cioè l’integrale della curvatura Gaussiana su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è uguale a 2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º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per la caratteristica di Eulero-Poincaré di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S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.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95400" y="1523160"/>
            <a:ext cx="3048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b05"/>
                </a:solidFill>
                <a:latin typeface="Skia"/>
              </a:rPr>
              <a:t>Campi vettoriali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638680" y="220968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080080" y="6324480"/>
            <a:ext cx="14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 = (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</a:t>
            </a:r>
            <a:endParaRPr b="0" lang="en-US" sz="1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28520" y="6324480"/>
            <a:ext cx="238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 = 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y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2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  y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2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</a:t>
            </a:r>
            <a:endParaRPr b="0" lang="en-US" sz="14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82520" y="21337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600360" y="21319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020000" y="21319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181080" y="21319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024680" y="2133720"/>
            <a:ext cx="3232080" cy="3236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3603600" y="213372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695760" y="15231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b05"/>
                </a:solidFill>
                <a:latin typeface="Skia"/>
              </a:rPr>
              <a:t>Campi vettoriali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95120" y="5562720"/>
            <a:ext cx="14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 = (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 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</a:t>
            </a:r>
            <a:endParaRPr b="0" lang="en-US" sz="1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18720" y="5562720"/>
            <a:ext cx="14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 = (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</a:t>
            </a:r>
            <a:endParaRPr b="0" lang="en-US" sz="1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26440" y="5562720"/>
            <a:ext cx="242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 = (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y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mi12"/>
              </a:rPr>
              <a:t>2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x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2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 y 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{</a:t>
            </a:r>
            <a:r>
              <a:rPr b="0" lang="en-US" sz="1400" spc="-1" strike="noStrike">
                <a:solidFill>
                  <a:srgbClr val="2ee62e"/>
                </a:solidFill>
                <a:latin typeface="cmmi12"/>
              </a:rPr>
              <a:t>y</a:t>
            </a:r>
            <a:r>
              <a:rPr b="0" lang="en-US" sz="1400" spc="-1" strike="noStrike" baseline="30000">
                <a:solidFill>
                  <a:srgbClr val="2ee62e"/>
                </a:solidFill>
                <a:latin typeface="cmr17"/>
              </a:rPr>
              <a:t>3</a:t>
            </a:r>
            <a:r>
              <a:rPr b="0" lang="en-US" sz="1400" spc="-1" strike="noStrike">
                <a:solidFill>
                  <a:srgbClr val="2ee62e"/>
                </a:solidFill>
                <a:latin typeface="cmr17"/>
              </a:rPr>
              <a:t>)</a:t>
            </a:r>
            <a:endParaRPr b="0" lang="en-US" sz="14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56640" y="6064200"/>
            <a:ext cx="18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Æ </a:t>
            </a:r>
            <a:r>
              <a:rPr b="0" lang="en-US" sz="2000" spc="-1" strike="noStrike" baseline="30000">
                <a:solidFill>
                  <a:srgbClr val="f4fa41"/>
                </a:solidFill>
                <a:latin typeface="cmsy10"/>
              </a:rPr>
              <a:t>0</a:t>
            </a:r>
            <a:r>
              <a:rPr b="0" lang="en-US" sz="20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t</a:t>
            </a:r>
            <a:r>
              <a:rPr b="0" lang="en-US" sz="2000" spc="-1" strike="noStrike">
                <a:solidFill>
                  <a:srgbClr val="f4fa41"/>
                </a:solidFill>
                <a:latin typeface="cmr17"/>
              </a:rPr>
              <a:t>) = 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24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Æ</a:t>
            </a:r>
            <a:r>
              <a:rPr b="0" lang="en-US" sz="20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t</a:t>
            </a:r>
            <a:r>
              <a:rPr b="0" lang="en-US" sz="20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en-US" sz="2400" spc="-1" strike="noStrike">
                <a:solidFill>
                  <a:srgbClr val="f4fa41"/>
                </a:solidFill>
                <a:latin typeface="cmr17"/>
              </a:rPr>
              <a:t>)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803760" y="2440080"/>
            <a:ext cx="2832120" cy="3240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919920" y="24400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81160" y="2440080"/>
            <a:ext cx="3238200" cy="3238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3803760" y="2689200"/>
            <a:ext cx="2832120" cy="2743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279360" y="24400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279360" y="24400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3803760" y="2689200"/>
            <a:ext cx="2832120" cy="2743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6919920" y="24400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6919920" y="244008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1675800"/>
            <a:ext cx="815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b05"/>
                </a:solidFill>
                <a:latin typeface="Skia"/>
              </a:rPr>
              <a:t>Indice di un campo vettoriale</a:t>
            </a:r>
            <a:endParaRPr b="1" i="1" lang="en-US" sz="28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252" name=""/>
          <p:cNvSpPr/>
          <p:nvPr/>
        </p:nvSpPr>
        <p:spPr>
          <a:xfrm>
            <a:off x="1235160" y="6122880"/>
            <a:ext cx="1328760" cy="398880"/>
          </a:xfrm>
          <a:prstGeom prst="rect">
            <a:avLst/>
          </a:prstGeom>
          <a:noFill/>
          <a:ln w="9360">
            <a:solidFill>
              <a:srgbClr val="2ee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∂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p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 X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) = 1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26760" y="6122880"/>
            <a:ext cx="1424520" cy="398880"/>
          </a:xfrm>
          <a:prstGeom prst="rect">
            <a:avLst/>
          </a:prstGeom>
          <a:noFill/>
          <a:ln w="9360">
            <a:solidFill>
              <a:srgbClr val="2ee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∂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p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 X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) = {3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56160" y="6122880"/>
            <a:ext cx="1328760" cy="398880"/>
          </a:xfrm>
          <a:prstGeom prst="rect">
            <a:avLst/>
          </a:prstGeom>
          <a:noFill/>
          <a:ln w="9360">
            <a:solidFill>
              <a:srgbClr val="2ee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∂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p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 X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) = 2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279360" y="244008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52080" y="5762520"/>
            <a:ext cx="129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,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y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) = ({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,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{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y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)</a:t>
            </a:r>
            <a:endParaRPr b="0" lang="en-US" sz="12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29080" y="5764320"/>
            <a:ext cx="15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,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y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) = (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x</a:t>
            </a:r>
            <a:r>
              <a:rPr b="0" lang="en-US" sz="1200" spc="-1" strike="noStrike" baseline="30000">
                <a:solidFill>
                  <a:srgbClr val="f4fa41"/>
                </a:solidFill>
                <a:latin typeface="cmr17"/>
              </a:rPr>
              <a:t>2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{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y</a:t>
            </a:r>
            <a:r>
              <a:rPr b="0" lang="en-US" sz="1200" spc="-1" strike="noStrike" baseline="30000">
                <a:solidFill>
                  <a:srgbClr val="f4fa41"/>
                </a:solidFill>
                <a:latin typeface="cmr17"/>
              </a:rPr>
              <a:t>2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,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2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 y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)</a:t>
            </a:r>
            <a:endParaRPr b="0" lang="en-US" sz="12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07440" y="5762520"/>
            <a:ext cx="20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,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y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) = (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 baseline="30000">
                <a:solidFill>
                  <a:srgbClr val="f4fa41"/>
                </a:solidFill>
                <a:latin typeface="cmr17"/>
              </a:rPr>
              <a:t>3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{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3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y</a:t>
            </a:r>
            <a:r>
              <a:rPr b="0" lang="en-US" sz="1200" spc="-1" strike="noStrike" baseline="30000">
                <a:solidFill>
                  <a:srgbClr val="f4fa41"/>
                </a:solidFill>
                <a:latin typeface="cmr17"/>
              </a:rPr>
              <a:t>2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,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  y</a:t>
            </a:r>
            <a:r>
              <a:rPr b="0" lang="en-US" sz="1200" spc="-1" strike="noStrike" baseline="30000">
                <a:solidFill>
                  <a:srgbClr val="f4fa41"/>
                </a:solidFill>
                <a:latin typeface="cmr17"/>
              </a:rPr>
              <a:t>3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{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 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3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x</a:t>
            </a:r>
            <a:r>
              <a:rPr b="0" lang="en-US" sz="1200" spc="-1" strike="noStrike" baseline="30000">
                <a:solidFill>
                  <a:srgbClr val="f4fa41"/>
                </a:solidFill>
                <a:latin typeface="cmr17"/>
              </a:rPr>
              <a:t>2</a:t>
            </a:r>
            <a:r>
              <a:rPr b="0" lang="en-US" sz="1200" spc="-1" strike="noStrike">
                <a:solidFill>
                  <a:srgbClr val="f4fa41"/>
                </a:solidFill>
                <a:latin typeface="cmmi12"/>
              </a:rPr>
              <a:t>y</a:t>
            </a:r>
            <a:r>
              <a:rPr b="0" lang="en-US" sz="1200" spc="-1" strike="noStrike">
                <a:solidFill>
                  <a:srgbClr val="f4fa41"/>
                </a:solidFill>
                <a:latin typeface="cmr17"/>
              </a:rPr>
              <a:t>)</a:t>
            </a:r>
            <a:endParaRPr b="0" lang="en-US" sz="12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Macintosh HD:Users:marcoabate:Presentazioni:Divulgazione:Nobel:Immagini Nobel:Archive Folder:camposfera2.mov" descr=""/>
          <p:cNvPicPr/>
          <p:nvPr/>
        </p:nvPicPr>
        <p:blipFill>
          <a:blip r:embed="rId1"/>
          <a:stretch/>
        </p:blipFill>
        <p:spPr>
          <a:xfrm>
            <a:off x="2717640" y="2440080"/>
            <a:ext cx="5002200" cy="3597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143000" y="1675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b05"/>
                </a:solidFill>
                <a:latin typeface="Skia"/>
              </a:rPr>
              <a:t>Indice di un campo vettoriale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456760" y="4040280"/>
            <a:ext cx="1328760" cy="398880"/>
          </a:xfrm>
          <a:prstGeom prst="rect">
            <a:avLst/>
          </a:prstGeom>
          <a:noFill/>
          <a:ln w="9360">
            <a:solidFill>
              <a:srgbClr val="2ee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∂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p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,</a:t>
            </a:r>
            <a:r>
              <a:rPr b="0" lang="en-US" sz="2000" spc="-1" strike="noStrike">
                <a:solidFill>
                  <a:srgbClr val="2ee62e"/>
                </a:solidFill>
                <a:latin typeface="cmmi12"/>
              </a:rPr>
              <a:t> X</a:t>
            </a:r>
            <a:r>
              <a:rPr b="0" lang="en-US" sz="2000" spc="-1" strike="noStrike">
                <a:solidFill>
                  <a:srgbClr val="2ee62e"/>
                </a:solidFill>
                <a:latin typeface="cmr17"/>
              </a:rPr>
              <a:t>) = 1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76240" y="6248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fa41"/>
                </a:solidFill>
                <a:latin typeface="AGaramond"/>
              </a:rPr>
              <a:t>L’</a:t>
            </a:r>
            <a:r>
              <a:rPr b="0" lang="en-US" sz="1800" spc="-1" strike="noStrike">
                <a:solidFill>
                  <a:srgbClr val="2ee62e"/>
                </a:solidFill>
                <a:latin typeface="AGaramond BoldItalic"/>
              </a:rPr>
              <a:t>indice</a:t>
            </a:r>
            <a:r>
              <a:rPr b="0" lang="en-US" sz="1800" spc="-1" strike="noStrike">
                <a:solidFill>
                  <a:srgbClr val="f4fa41"/>
                </a:solidFill>
                <a:latin typeface="AGaramond"/>
              </a:rPr>
              <a:t> è un oggetto </a:t>
            </a:r>
            <a:r>
              <a:rPr b="0" lang="en-US" sz="1800" spc="-1" strike="noStrike">
                <a:solidFill>
                  <a:srgbClr val="e63306"/>
                </a:solidFill>
                <a:latin typeface="AGaramond BoldItalic"/>
              </a:rPr>
              <a:t>locale</a:t>
            </a:r>
            <a:r>
              <a:rPr b="0" lang="en-US" sz="1800" spc="-1" strike="noStrike">
                <a:solidFill>
                  <a:srgbClr val="f4fa41"/>
                </a:solidFill>
                <a:latin typeface="AGaramond BoldItalic"/>
              </a:rPr>
              <a:t> </a:t>
            </a:r>
            <a:r>
              <a:rPr b="0" lang="en-US" sz="1800" spc="-1" strike="noStrike">
                <a:solidFill>
                  <a:srgbClr val="f4fa41"/>
                </a:solidFill>
                <a:latin typeface="AGaramond"/>
              </a:rPr>
              <a:t>e </a:t>
            </a:r>
            <a:r>
              <a:rPr b="0" lang="en-US" sz="1800" spc="-1" strike="noStrike">
                <a:solidFill>
                  <a:srgbClr val="e63306"/>
                </a:solidFill>
                <a:latin typeface="AGaramond BoldItalic"/>
              </a:rPr>
              <a:t>qualitativo (analitico)</a:t>
            </a:r>
            <a:r>
              <a:rPr b="0" lang="en-US" sz="1800" spc="-1" strike="noStrike">
                <a:solidFill>
                  <a:srgbClr val="f4fa41"/>
                </a:solidFill>
                <a:latin typeface="AGaramond"/>
              </a:rPr>
              <a:t> associato al campo vettoriale.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5840" y="2209680"/>
            <a:ext cx="4703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Il </a:t>
            </a:r>
            <a:r>
              <a:rPr b="0" lang="it-IT" sz="2000" spc="-1" strike="noStrike">
                <a:solidFill>
                  <a:srgbClr val="ff3b05"/>
                </a:solidFill>
                <a:latin typeface="AGaramond BoldItalic"/>
              </a:rPr>
              <a:t>premio Abel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è conferito dall’Accademia delle Scienze norvegese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Ha lo stesso scopo e la stessa struttura del premio Nobel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È stato assegnato per la prima volta nel 2003, a </a:t>
            </a:r>
            <a:r>
              <a:rPr b="0" lang="it-IT" sz="2000" spc="-1" strike="noStrike">
                <a:solidFill>
                  <a:srgbClr val="ff3b05"/>
                </a:solidFill>
                <a:latin typeface="AGaramond Bold"/>
              </a:rPr>
              <a:t>Jean-Paul Serre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b05"/>
                </a:solidFill>
                <a:latin typeface="AGaramond BoldItalic"/>
              </a:rPr>
              <a:t>Niels Henrik Abel</a:t>
            </a:r>
            <a:r>
              <a:rPr b="0" i="1" lang="it-IT" sz="2000" spc="-1" strike="noStrike">
                <a:solidFill>
                  <a:srgbClr val="753d2c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(1802–1829), matematico norvegese morto giovanissimo di tubercolosi, è noto per i suoi contributi fondamentali all’algebra e all’analisi matematica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535800" y="1981080"/>
            <a:ext cx="2987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0160" y="19353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e63306"/>
                </a:solidFill>
                <a:latin typeface="Skia"/>
              </a:rPr>
              <a:t>Teorema di Poincaré-Hopf (1920 ca.)</a:t>
            </a:r>
            <a:endParaRPr b="1" i="1" lang="en-US" sz="32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914400" y="3048120"/>
            <a:ext cx="8610480" cy="2286000"/>
            <a:chOff x="914400" y="3048120"/>
            <a:chExt cx="8610480" cy="2286000"/>
          </a:xfrm>
        </p:grpSpPr>
        <p:sp>
          <p:nvSpPr>
            <p:cNvPr id="265" name=""/>
            <p:cNvSpPr/>
            <p:nvPr/>
          </p:nvSpPr>
          <p:spPr>
            <a:xfrm>
              <a:off x="914400" y="3048120"/>
              <a:ext cx="8610480" cy="2286000"/>
            </a:xfrm>
            <a:prstGeom prst="rect">
              <a:avLst/>
            </a:prstGeom>
            <a:noFill/>
            <a:ln w="38160">
              <a:solidFill>
                <a:srgbClr val="753d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4fa41"/>
                  </a:solidFill>
                  <a:latin typeface="AGaramond Italic"/>
                </a:rPr>
                <a:t>Sia</a:t>
              </a:r>
              <a:r>
                <a:rPr b="0" lang="it-IT" sz="2000" spc="-1" strike="noStrike">
                  <a:solidFill>
                    <a:srgbClr val="f4fa41"/>
                  </a:solidFill>
                  <a:latin typeface="AGaramond"/>
                </a:rPr>
                <a:t> </a:t>
              </a:r>
              <a:r>
                <a:rPr b="0" lang="it-IT" sz="2000" spc="-1" strike="noStrike">
                  <a:solidFill>
                    <a:srgbClr val="f4fa41"/>
                  </a:solidFill>
                  <a:latin typeface="AGaramond Italic"/>
                </a:rPr>
                <a:t>X un campo vettoriale con solo zeri isolati su una superficie compatta orientabile S. Allora</a:t>
              </a:r>
              <a:endParaRPr b="0" lang="en-US" sz="20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e63306"/>
                  </a:solidFill>
                  <a:latin typeface="cmmi12"/>
                </a:rPr>
                <a:t>                 </a:t>
              </a:r>
              <a:r>
                <a:rPr b="0" lang="it-IT" sz="2000" spc="-1" strike="noStrike">
                  <a:solidFill>
                    <a:srgbClr val="2ee62e"/>
                  </a:solidFill>
                  <a:latin typeface="cmmi12"/>
                </a:rPr>
                <a:t>∂ </a:t>
              </a:r>
              <a:r>
                <a:rPr b="0" lang="it-IT" sz="2000" spc="-1" strike="noStrike">
                  <a:solidFill>
                    <a:srgbClr val="2ee62e"/>
                  </a:solidFill>
                  <a:latin typeface="cmr17"/>
                </a:rPr>
                <a:t>(</a:t>
              </a:r>
              <a:r>
                <a:rPr b="0" lang="it-IT" sz="2000" spc="-1" strike="noStrike">
                  <a:solidFill>
                    <a:srgbClr val="2ee62e"/>
                  </a:solidFill>
                  <a:latin typeface="cmmi12"/>
                </a:rPr>
                <a:t>p</a:t>
              </a:r>
              <a:r>
                <a:rPr b="0" lang="it-IT" sz="2000" spc="-1" strike="noStrike">
                  <a:solidFill>
                    <a:srgbClr val="2ee62e"/>
                  </a:solidFill>
                  <a:latin typeface="cmr17"/>
                </a:rPr>
                <a:t>,</a:t>
              </a:r>
              <a:r>
                <a:rPr b="0" lang="it-IT" sz="2000" spc="-1" strike="noStrike">
                  <a:solidFill>
                    <a:srgbClr val="2ee62e"/>
                  </a:solidFill>
                  <a:latin typeface="cmmi12"/>
                </a:rPr>
                <a:t> X</a:t>
              </a:r>
              <a:r>
                <a:rPr b="0" lang="it-IT" sz="2000" spc="-1" strike="noStrike">
                  <a:solidFill>
                    <a:srgbClr val="2ee62e"/>
                  </a:solidFill>
                  <a:latin typeface="cmr17"/>
                </a:rPr>
                <a:t>) = </a:t>
              </a:r>
              <a:r>
                <a:rPr b="0" lang="it-IT" sz="2000" spc="-1" strike="noStrike">
                  <a:solidFill>
                    <a:srgbClr val="2ee62e"/>
                  </a:solidFill>
                  <a:latin typeface="cmmi12"/>
                </a:rPr>
                <a:t>¬ </a:t>
              </a:r>
              <a:r>
                <a:rPr b="0" lang="it-IT" sz="2000" spc="-1" strike="noStrike">
                  <a:solidFill>
                    <a:srgbClr val="2ee62e"/>
                  </a:solidFill>
                  <a:latin typeface="cmr17"/>
                </a:rPr>
                <a:t>(</a:t>
              </a:r>
              <a:r>
                <a:rPr b="0" lang="it-IT" sz="2000" spc="-1" strike="noStrike">
                  <a:solidFill>
                    <a:srgbClr val="2ee62e"/>
                  </a:solidFill>
                  <a:latin typeface="cmmi12"/>
                </a:rPr>
                <a:t>S </a:t>
              </a:r>
              <a:r>
                <a:rPr b="0" lang="it-IT" sz="2000" spc="-1" strike="noStrike">
                  <a:solidFill>
                    <a:srgbClr val="2ee62e"/>
                  </a:solidFill>
                  <a:latin typeface="cmr17"/>
                </a:rPr>
                <a:t>),</a:t>
              </a:r>
              <a:endParaRPr b="0" lang="en-US" sz="20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4fa41"/>
                  </a:solidFill>
                  <a:latin typeface="AGaramond Italic"/>
                </a:rPr>
                <a:t>cioè la somma degli indici del campo</a:t>
              </a:r>
              <a:r>
                <a:rPr b="0" lang="it-IT" sz="2000" spc="-1" strike="noStrike">
                  <a:solidFill>
                    <a:srgbClr val="f4fa41"/>
                  </a:solidFill>
                  <a:latin typeface="cmmi12"/>
                </a:rPr>
                <a:t> </a:t>
              </a:r>
              <a:r>
                <a:rPr b="0" lang="it-IT" sz="2000" spc="-1" strike="noStrike">
                  <a:solidFill>
                    <a:srgbClr val="f4fa41"/>
                  </a:solidFill>
                  <a:latin typeface="AGaramond Italic"/>
                </a:rPr>
                <a:t>vettoriale </a:t>
              </a:r>
              <a:r>
                <a:rPr b="0" lang="it-IT" sz="2000" spc="-1" strike="noStrike">
                  <a:solidFill>
                    <a:srgbClr val="f4fa41"/>
                  </a:solidFill>
                  <a:latin typeface="cmmi12"/>
                </a:rPr>
                <a:t>X </a:t>
              </a:r>
              <a:r>
                <a:rPr b="0" lang="it-IT" sz="2000" spc="-1" strike="noStrike">
                  <a:solidFill>
                    <a:srgbClr val="f4fa41"/>
                  </a:solidFill>
                  <a:latin typeface="AGaramond Italic"/>
                </a:rPr>
                <a:t>è esattamente uguale alla caratteristica di Eulero-Poincaré di </a:t>
              </a:r>
              <a:r>
                <a:rPr b="0" lang="it-IT" sz="2000" spc="-1" strike="noStrike">
                  <a:solidFill>
                    <a:srgbClr val="f4fa41"/>
                  </a:solidFill>
                  <a:latin typeface="cmmi12"/>
                </a:rPr>
                <a:t>S</a:t>
              </a:r>
              <a:r>
                <a:rPr b="0" lang="it-IT" sz="2000" spc="-1" strike="noStrike">
                  <a:solidFill>
                    <a:srgbClr val="f4fa41"/>
                  </a:solidFill>
                  <a:latin typeface="AGaramond Italic"/>
                </a:rPr>
                <a:t>.</a:t>
              </a:r>
              <a:endParaRPr b="0" lang="en-US" sz="20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70960" y="3809880"/>
              <a:ext cx="43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ee62e"/>
                  </a:solidFill>
                  <a:latin typeface="cmr17"/>
                </a:rPr>
                <a:t>ß</a:t>
              </a:r>
              <a:endParaRPr b="0" lang="en-US" sz="32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71600" y="16754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63306"/>
                </a:solidFill>
                <a:latin typeface="Skia"/>
              </a:rPr>
              <a:t>Teorema del parrucchiere</a:t>
            </a:r>
            <a:endParaRPr b="0" lang="en-US" sz="32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456280"/>
            <a:ext cx="8610480" cy="398880"/>
          </a:xfrm>
          <a:prstGeom prst="rect">
            <a:avLst/>
          </a:prstGeom>
          <a:noFill/>
          <a:ln w="38160">
            <a:solidFill>
              <a:srgbClr val="753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Ogni campo vettoriale sulla sfera ha almeno uno zero.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269" name="Macintosh HD:Users:marcoabate:Presentazioni:Divulgazione:Nobel:Immagini Nobel:Archive Folder:camposfera1.mov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4502160" cy="323856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380880" y="3187440"/>
            <a:ext cx="4496040" cy="3264120"/>
            <a:chOff x="380880" y="3187440"/>
            <a:chExt cx="4496040" cy="3264120"/>
          </a:xfrm>
        </p:grpSpPr>
        <p:sp>
          <p:nvSpPr>
            <p:cNvPr id="271" name=""/>
            <p:cNvSpPr/>
            <p:nvPr/>
          </p:nvSpPr>
          <p:spPr>
            <a:xfrm flipV="1">
              <a:off x="380880" y="3187440"/>
              <a:ext cx="4496040" cy="3213000"/>
            </a:xfrm>
            <a:prstGeom prst="line">
              <a:avLst/>
            </a:prstGeom>
            <a:ln w="57240">
              <a:solidFill>
                <a:srgbClr val="cf27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880" y="3200400"/>
              <a:ext cx="4483080" cy="3251160"/>
            </a:xfrm>
            <a:prstGeom prst="line">
              <a:avLst/>
            </a:prstGeom>
            <a:ln w="57240">
              <a:solidFill>
                <a:srgbClr val="cf27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pic>
        <p:nvPicPr>
          <p:cNvPr id="273" name="Macintosh HD:Users:marcoabate:Presentazioni:Divulgazione:Nobel:Immagini Nobel:Archive Folder:campotoro.mov" descr=""/>
          <p:cNvPicPr/>
          <p:nvPr/>
        </p:nvPicPr>
        <p:blipFill>
          <a:blip r:embed="rId2"/>
          <a:stretch/>
        </p:blipFill>
        <p:spPr>
          <a:xfrm>
            <a:off x="5410080" y="3200400"/>
            <a:ext cx="450216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82640" y="1676160"/>
            <a:ext cx="887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63306"/>
                </a:solidFill>
                <a:latin typeface="Skia"/>
              </a:rPr>
              <a:t>Riassumendo:</a:t>
            </a:r>
            <a:endParaRPr b="1" i="1" lang="en-US" sz="32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28520" y="2904840"/>
            <a:ext cx="838188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a41"/>
                </a:solidFill>
                <a:latin typeface="AGaramond"/>
              </a:rPr>
              <a:t>Somma (o integrale) di oggetti locali = oggetto globale.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a41"/>
                </a:solidFill>
                <a:latin typeface="AGaramond"/>
              </a:rPr>
              <a:t>Entrano in gioco concetti geometrici ma anche equazioni differenziali.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a41"/>
                </a:solidFill>
                <a:latin typeface="AGaramond"/>
              </a:rPr>
              <a:t>Si mescolano aspetti quantitativi e aspetti qualitativi.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a41"/>
                </a:solidFill>
                <a:latin typeface="AGaramond"/>
              </a:rPr>
              <a:t>Siamo solo in due dimensioni.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83880" y="5697360"/>
            <a:ext cx="48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3306"/>
                </a:solidFill>
                <a:latin typeface="AGaramond Italic"/>
              </a:rPr>
              <a:t>E finalmente ecco a voi…</a:t>
            </a:r>
            <a:endParaRPr b="0" lang="en-US" sz="32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1751760"/>
            <a:ext cx="9829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e63306"/>
                </a:solidFill>
                <a:latin typeface="Skia"/>
              </a:rPr>
              <a:t>Teorema dell’indice di Atiyah-Singer (1963 ca.)</a:t>
            </a:r>
            <a:endParaRPr b="1" i="1" lang="en-US" sz="32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2498760"/>
            <a:ext cx="8610480" cy="2590920"/>
          </a:xfrm>
          <a:prstGeom prst="rect">
            <a:avLst/>
          </a:prstGeom>
          <a:noFill/>
          <a:ln w="38160">
            <a:solidFill>
              <a:srgbClr val="753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Sia</a:t>
            </a:r>
            <a:r>
              <a:rPr b="0" lang="it-IT" sz="2000" spc="-1" strike="noStrike">
                <a:solidFill>
                  <a:srgbClr val="f4fa41"/>
                </a:solidFill>
                <a:latin typeface="AGaramond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M una varietà compatta di dimensione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n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, e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 un complesso ellittico di operatori differenziali su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M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. Indichiamo con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æ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)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il simbolo di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.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 Allora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ee62e"/>
                </a:solidFill>
                <a:latin typeface="AGaramond Italic"/>
              </a:rPr>
              <a:t>Indice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) =</a:t>
            </a:r>
            <a:r>
              <a:rPr b="0" lang="it-IT" sz="2000" spc="-1" strike="noStrike">
                <a:solidFill>
                  <a:srgbClr val="e63306"/>
                </a:solidFill>
                <a:latin typeface="cmr17"/>
              </a:rPr>
              <a:t> </a:t>
            </a:r>
            <a:r>
              <a:rPr b="0" lang="it-IT" sz="3200" spc="-1" strike="noStrike">
                <a:solidFill>
                  <a:srgbClr val="2ee62e"/>
                </a:solidFill>
                <a:latin typeface="cmsy10"/>
              </a:rPr>
              <a:t>s</a:t>
            </a:r>
            <a:r>
              <a:rPr b="0" lang="it-IT" sz="2000" spc="-1" strike="noStrike" baseline="-25000">
                <a:solidFill>
                  <a:srgbClr val="2ee62e"/>
                </a:solidFill>
                <a:latin typeface="cmmi12"/>
              </a:rPr>
              <a:t>TM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    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ch</a:t>
            </a:r>
            <a:r>
              <a:rPr b="0" lang="it-IT" sz="24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æ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)</a:t>
            </a:r>
            <a:r>
              <a:rPr b="0" lang="it-IT" sz="2400" spc="-1" strike="noStrike">
                <a:solidFill>
                  <a:srgbClr val="2ee62e"/>
                </a:solidFill>
                <a:latin typeface="cmr17"/>
              </a:rPr>
              <a:t>)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 td(</a:t>
            </a:r>
            <a:r>
              <a:rPr b="0" lang="it-IT" sz="2000" spc="-1" strike="noStrike">
                <a:solidFill>
                  <a:srgbClr val="2ee62e"/>
                </a:solidFill>
                <a:latin typeface="cmmi12"/>
              </a:rPr>
              <a:t>TM</a:t>
            </a:r>
            <a:r>
              <a:rPr b="0" lang="it-IT" sz="2000" spc="-1" strike="noStrike">
                <a:solidFill>
                  <a:srgbClr val="2ee62e"/>
                </a:solidFill>
                <a:latin typeface="cmsy10"/>
              </a:rPr>
              <a:t>≠</a:t>
            </a:r>
            <a:r>
              <a:rPr b="0" lang="it-IT" sz="2000" spc="-1" strike="noStrike">
                <a:solidFill>
                  <a:srgbClr val="2ee62e"/>
                </a:solidFill>
                <a:latin typeface="msbm10"/>
              </a:rPr>
              <a:t>C</a:t>
            </a:r>
            <a:r>
              <a:rPr b="0" lang="it-IT" sz="2000" spc="-1" strike="noStrike">
                <a:solidFill>
                  <a:srgbClr val="2ee62e"/>
                </a:solidFill>
                <a:latin typeface="cmr17"/>
              </a:rPr>
              <a:t>),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dove 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ch</a:t>
            </a:r>
            <a:r>
              <a:rPr b="0" lang="it-IT" sz="24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æ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(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it-IT" sz="24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 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è il carattere di Chern del simbolo di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D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, e 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td(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TM</a:t>
            </a:r>
            <a:r>
              <a:rPr b="0" lang="it-IT" sz="2000" spc="-1" strike="noStrike">
                <a:solidFill>
                  <a:srgbClr val="f4fa41"/>
                </a:solidFill>
                <a:latin typeface="cmsy10"/>
              </a:rPr>
              <a:t>≠</a:t>
            </a:r>
            <a:r>
              <a:rPr b="0" lang="it-IT" sz="2000" spc="-1" strike="noStrike">
                <a:solidFill>
                  <a:srgbClr val="f4fa41"/>
                </a:solidFill>
                <a:latin typeface="msbm10"/>
              </a:rPr>
              <a:t>C</a:t>
            </a:r>
            <a:r>
              <a:rPr b="0" lang="it-IT" sz="2000" spc="-1" strike="noStrike">
                <a:solidFill>
                  <a:srgbClr val="f4fa41"/>
                </a:solidFill>
                <a:latin typeface="cmr17"/>
              </a:rPr>
              <a:t>)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 è la classe di Todd del complessificato del fibrato tangente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TM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 di </a:t>
            </a:r>
            <a:r>
              <a:rPr b="0" lang="it-IT" sz="2000" spc="-1" strike="noStrike">
                <a:solidFill>
                  <a:srgbClr val="f4fa41"/>
                </a:solidFill>
                <a:latin typeface="cmmi12"/>
              </a:rPr>
              <a:t>M</a:t>
            </a:r>
            <a:r>
              <a:rPr b="0" lang="it-IT" sz="2000" spc="-1" strike="noStrike">
                <a:solidFill>
                  <a:srgbClr val="f4fa41"/>
                </a:solidFill>
                <a:latin typeface="AGaramond Italic"/>
              </a:rPr>
              <a:t>.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7000" y="5281560"/>
            <a:ext cx="984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L’indice di 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D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è un numero intero che in un certo senso conta quante sono le soluzioni dell’equazione differenziale 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DX </a:t>
            </a:r>
            <a:r>
              <a:rPr b="0" lang="en-US" sz="2000" spc="-1" strike="noStrike">
                <a:solidFill>
                  <a:srgbClr val="f4fa41"/>
                </a:solidFill>
                <a:latin typeface="cmr17"/>
              </a:rPr>
              <a:t>= </a:t>
            </a:r>
            <a:r>
              <a:rPr b="0" lang="en-US" sz="2000" spc="-1" strike="noStrike">
                <a:solidFill>
                  <a:srgbClr val="f4fa41"/>
                </a:solidFill>
                <a:latin typeface="cmmi12"/>
              </a:rPr>
              <a:t>O</a:t>
            </a:r>
            <a:r>
              <a:rPr b="0" lang="en-US" sz="2000" spc="-1" strike="noStrike">
                <a:solidFill>
                  <a:srgbClr val="f4fa41"/>
                </a:solidFill>
                <a:latin typeface="AGaramond Italic"/>
              </a:rPr>
              <a:t>, 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ed è un oggetto </a:t>
            </a:r>
            <a:r>
              <a:rPr b="0" lang="en-US" sz="2000" spc="-1" strike="noStrike">
                <a:solidFill>
                  <a:srgbClr val="e63306"/>
                </a:solidFill>
                <a:latin typeface="AGaramond BoldItalic"/>
              </a:rPr>
              <a:t>globale.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Il secondo membro è l’integrale di un oggetto </a:t>
            </a:r>
            <a:r>
              <a:rPr b="0" lang="en-US" sz="2000" spc="-1" strike="noStrike">
                <a:solidFill>
                  <a:srgbClr val="e63306"/>
                </a:solidFill>
                <a:latin typeface="AGaramond BoldItalic"/>
              </a:rPr>
              <a:t>locale,</a:t>
            </a: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 che dipende solo dalla topologia della varietà e dalla struttura algebrica di </a:t>
            </a:r>
            <a:r>
              <a:rPr b="0" lang="en-US" sz="2000" spc="-1" strike="noStrike">
                <a:solidFill>
                  <a:srgbClr val="f4fa41"/>
                </a:solidFill>
                <a:latin typeface="AGaramond Italic"/>
              </a:rPr>
              <a:t>D.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2640" y="1752120"/>
            <a:ext cx="887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63306"/>
                </a:solidFill>
                <a:latin typeface="Skia"/>
              </a:rPr>
              <a:t>Conseguenze del Teorema dell’indice:</a:t>
            </a:r>
            <a:endParaRPr b="1" i="1" lang="en-US" sz="32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55720" y="2743200"/>
            <a:ext cx="872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Il Teorema di Gauss-Bonnet in dimensione qualsiasi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Il Teorema di Riemann-Roch-Hirzebruch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Il Teorema di Poincaré-Hopf in dimensione qualsiasi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Il Teorema della segnatura di Hirzebruch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L’integralità del genere </a:t>
            </a:r>
            <a:r>
              <a:rPr b="0" lang="it-IT" sz="1800" spc="-1" strike="noStrike">
                <a:solidFill>
                  <a:srgbClr val="f4fa41"/>
                </a:solidFill>
                <a:latin typeface="AGaramond Italic"/>
              </a:rPr>
              <a:t>Â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Il Teorema del punto fisso di Atiyah-Bott, che generalizza quello di Lefschetz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Ha avuto applicazioni nello studio dell’analisi e della geometria dell’equazione del calore e di equazioni collegate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Ha avuto applicazioni nella fisica teorica e nella fisica quantistica.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"/>
              </a:rPr>
              <a:t>Molto altro…</a:t>
            </a: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fa41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9200" y="25416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f101d"/>
                </a:solidFill>
                <a:latin typeface="Copperplate Gothic Light"/>
              </a:rPr>
              <a:t>Perché</a:t>
            </a:r>
            <a:r>
              <a:rPr b="1" i="1" lang="en-US" sz="4800" spc="-1" strike="noStrike">
                <a:solidFill>
                  <a:srgbClr val="cf101d"/>
                </a:solidFill>
                <a:latin typeface="Copperplate Gothic Light"/>
              </a:rPr>
              <a:t> NOBEL?</a:t>
            </a:r>
            <a:endParaRPr b="0" lang="en-US" sz="4800" spc="-1" strike="noStrike">
              <a:solidFill>
                <a:srgbClr val="f4fa41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025280" y="2338920"/>
            <a:ext cx="3970800" cy="3294720"/>
            <a:chOff x="1025280" y="2338920"/>
            <a:chExt cx="3970800" cy="3294720"/>
          </a:xfrm>
        </p:grpSpPr>
        <p:sp>
          <p:nvSpPr>
            <p:cNvPr id="284" name=""/>
            <p:cNvSpPr/>
            <p:nvPr/>
          </p:nvSpPr>
          <p:spPr>
            <a:xfrm>
              <a:off x="1101240" y="4564800"/>
              <a:ext cx="381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3b05"/>
                  </a:solidFill>
                  <a:latin typeface="Copperplate Gothic Bold"/>
                </a:rPr>
                <a:t>Il </a:t>
              </a:r>
              <a:r>
                <a:rPr b="0" i="1" lang="it-IT" sz="3200" spc="-1" strike="noStrike">
                  <a:solidFill>
                    <a:srgbClr val="f4fa41"/>
                  </a:solidFill>
                  <a:latin typeface="Copperplate Gothic Bold"/>
                </a:rPr>
                <a:t>Premio Abel</a:t>
              </a:r>
              <a:r>
                <a:rPr b="0" i="1" lang="it-IT" sz="3200" spc="-1" strike="noStrike">
                  <a:solidFill>
                    <a:srgbClr val="ff3b05"/>
                  </a:solidFill>
                  <a:latin typeface="Copperplate Gothic Bold"/>
                </a:rPr>
                <a:t> </a:t>
              </a:r>
              <a:r>
                <a:rPr b="0" lang="it-IT" sz="3200" spc="-1" strike="noStrike">
                  <a:solidFill>
                    <a:srgbClr val="ff3b05"/>
                  </a:solidFill>
                  <a:latin typeface="Copperplate Gothic Bold"/>
                </a:rPr>
                <a:t>2004</a:t>
              </a:r>
              <a:endParaRPr b="0" lang="en-US" sz="32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3b05"/>
                  </a:solidFill>
                  <a:latin typeface="Copperplate Gothic Bold"/>
                </a:rPr>
                <a:t>per la </a:t>
              </a:r>
              <a:r>
                <a:rPr b="1" i="1" lang="it-IT" sz="3200" spc="-1" strike="noStrike">
                  <a:solidFill>
                    <a:srgbClr val="f4fa41"/>
                  </a:solidFill>
                  <a:latin typeface="Copperplate Gothic Bold"/>
                </a:rPr>
                <a:t>Matematica</a:t>
              </a:r>
              <a:r>
                <a:rPr b="1" i="1" lang="it-IT" sz="3200" spc="-1" strike="noStrike">
                  <a:solidFill>
                    <a:srgbClr val="e63306"/>
                  </a:solidFill>
                  <a:latin typeface="Copperplate Gothic Bold"/>
                </a:rPr>
                <a:t>.</a:t>
              </a:r>
              <a:endParaRPr b="0" lang="en-US" sz="32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5280" y="2338920"/>
              <a:ext cx="3970800" cy="20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cf101d"/>
                  </a:solidFill>
                  <a:latin typeface="Copperplate Gothic Light"/>
                </a:rPr>
                <a:t>Ecco perché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ffe707"/>
                  </a:solidFill>
                  <a:latin typeface="Apple Chancery"/>
                </a:rPr>
                <a:t>Michael F. Atiyah</a:t>
              </a:r>
              <a:endParaRPr b="0" lang="en-US" sz="36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cf101d"/>
                  </a:solidFill>
                  <a:latin typeface="Copperplate Gothic Light"/>
                </a:rPr>
                <a:t>e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ffe707"/>
                  </a:solidFill>
                  <a:latin typeface="Apple Chancery"/>
                </a:rPr>
                <a:t>Isadore M. Singer</a:t>
              </a:r>
              <a:endParaRPr b="0" lang="en-US" sz="3600" spc="-1" strike="noStrike">
                <a:solidFill>
                  <a:srgbClr val="f4fa4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cf101d"/>
                  </a:solidFill>
                  <a:latin typeface="Copperplate Gothic Light"/>
                </a:rPr>
                <a:t>hanno vinto</a:t>
              </a:r>
              <a:endParaRPr b="0" lang="en-US" sz="2400" spc="-1" strike="noStrike">
                <a:solidFill>
                  <a:srgbClr val="f4fa41"/>
                </a:solidFill>
                <a:latin typeface="Times New Roman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837400" y="2128680"/>
            <a:ext cx="3984480" cy="35578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5880" y="62960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3d2c"/>
                </a:solidFill>
                <a:latin typeface="AGaramond BoldItalic"/>
              </a:rPr>
              <a:t>Marco Abate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41840" y="629604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3d2c"/>
                </a:solidFill>
                <a:latin typeface="AGaramond BoldItalic"/>
              </a:rPr>
              <a:t>Pisa, 5 aprile 2005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82640" y="1981080"/>
            <a:ext cx="436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b05"/>
                </a:solidFill>
                <a:latin typeface="Apple Chancery"/>
              </a:rPr>
              <a:t>Sir Michael Francis Atiyah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6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È nato a Londra nel 1929, da padre libanese e madre scozzese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Ha ottenuto il Dottorato in Matematica presso il Trinity College di Cambridge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Ha speso buona parte della sua carriera fra Oxford e Cambridge. Ha ricoperto la prestigiosa cattedra Savillian di Geometria a Oxford, è stato Master del Trinity College a Cambridge, e professore all’Institute for Advanced Studies di Princeton. Ora è professore onorario alla University of Edinburgh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Ha ricevuto la </a:t>
            </a:r>
            <a:r>
              <a:rPr b="0" lang="it-IT" sz="1400" spc="-1" strike="noStrike">
                <a:solidFill>
                  <a:srgbClr val="cf101d"/>
                </a:solidFill>
                <a:latin typeface="AGaramond Bold"/>
              </a:rPr>
              <a:t>Medaglia Fields</a:t>
            </a: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 nel 1966, ed è stato nominato baronetto nel 1983. 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Si è occupato di geometria algebrica, topologia algebrica,  geometria differenziale, fisica teorica, e molto altro…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9920" y="23241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82640" y="1981080"/>
            <a:ext cx="436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b05"/>
                </a:solidFill>
                <a:latin typeface="Apple Chancery"/>
              </a:rPr>
              <a:t>Isadore M. Singer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4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È nato a Detroit nel 1924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Ha ottenuto il Ph.D. in Matematica presso la University of Chicago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Ha speso buona parte della sua carriera presso il Massachussets Institute of Technology (MIT), dove ora è Institute Professor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Nel 2000 ha ricevuto lo Steele Prize for Lifetime Achievement dell’American Mathematical Society. 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4fa41"/>
                </a:solidFill>
                <a:latin typeface="AGaramond"/>
              </a:rPr>
              <a:t>Si è occupato principalmente di analisi matematica e di geometria differenziale.</a:t>
            </a:r>
            <a:endParaRPr b="0" lang="en-US" sz="1400" spc="-1" strike="noStrike">
              <a:solidFill>
                <a:srgbClr val="f4fa41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19920" y="23241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499080" y="1981080"/>
            <a:ext cx="2988000" cy="4114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52560" y="2552760"/>
            <a:ext cx="4762440" cy="2971800"/>
          </a:xfrm>
          <a:prstGeom prst="rect">
            <a:avLst/>
          </a:prstGeom>
          <a:noFill/>
          <a:ln w="38160">
            <a:solidFill>
              <a:srgbClr val="f4fa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4fa41"/>
                </a:solidFill>
                <a:latin typeface="AGaramond Italic"/>
              </a:rPr>
              <a:t>“</a:t>
            </a:r>
            <a:r>
              <a:rPr b="0" lang="it-IT" sz="1800" spc="-1" strike="noStrike">
                <a:solidFill>
                  <a:srgbClr val="f4fa41"/>
                </a:solidFill>
                <a:latin typeface="AGaramond Italic"/>
              </a:rPr>
              <a:t>L’Accademia Norvegese delle Scienze e delle Lettere ha deciso di conferire il Premio Abel 2004 a </a:t>
            </a:r>
            <a:r>
              <a:rPr b="0" lang="it-IT" sz="1800" spc="-1" strike="noStrike">
                <a:solidFill>
                  <a:srgbClr val="e63306"/>
                </a:solidFill>
                <a:latin typeface="AGaramond BoldItalic"/>
              </a:rPr>
              <a:t>Sir Michael Francis Atiyah </a:t>
            </a:r>
            <a:r>
              <a:rPr b="0" lang="it-IT" sz="1800" spc="-1" strike="noStrike">
                <a:solidFill>
                  <a:srgbClr val="f4fa41"/>
                </a:solidFill>
                <a:latin typeface="AGaramond Italic"/>
              </a:rPr>
              <a:t>(University of Edinburgh) e a </a:t>
            </a:r>
            <a:r>
              <a:rPr b="0" lang="it-IT" sz="1800" spc="-1" strike="noStrike">
                <a:solidFill>
                  <a:srgbClr val="e63306"/>
                </a:solidFill>
                <a:latin typeface="AGaramond BoldItalic"/>
              </a:rPr>
              <a:t>Isadore M. Singer </a:t>
            </a:r>
            <a:r>
              <a:rPr b="0" lang="it-IT" sz="1800" spc="-1" strike="noStrike">
                <a:solidFill>
                  <a:srgbClr val="f4fa41"/>
                </a:solidFill>
                <a:latin typeface="AGaramond Italic"/>
              </a:rPr>
              <a:t>(Massachussets Institute of Technology) per la scoperta e dimostrazione del </a:t>
            </a:r>
            <a:r>
              <a:rPr b="0" lang="it-IT" sz="1800" spc="-1" strike="noStrike">
                <a:solidFill>
                  <a:srgbClr val="cf101d"/>
                </a:solidFill>
                <a:latin typeface="AGaramond BoldItalic"/>
              </a:rPr>
              <a:t>Teorema dell’Indice,</a:t>
            </a:r>
            <a:r>
              <a:rPr b="0" lang="it-IT" sz="1800" spc="-1" strike="noStrike">
                <a:solidFill>
                  <a:srgbClr val="cf101d"/>
                </a:solidFill>
                <a:latin typeface="AGaramond BoldItalic"/>
              </a:rPr>
              <a:t> </a:t>
            </a:r>
            <a:r>
              <a:rPr b="0" lang="it-IT" sz="1800" spc="-1" strike="noStrike">
                <a:solidFill>
                  <a:srgbClr val="f4fa41"/>
                </a:solidFill>
                <a:latin typeface="AGaramond Italic"/>
              </a:rPr>
              <a:t>che riunisce e collega topologia, geometria e analisi matematica, e per il ruolo eccezionale che hanno svolto nel costruire nuovi legami fra la matematica e la fisica teorica.”</a:t>
            </a:r>
            <a:endParaRPr b="0" lang="en-US" sz="18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81200" y="2057400"/>
            <a:ext cx="887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63306"/>
                </a:solidFill>
                <a:latin typeface="Skia"/>
              </a:rPr>
              <a:t>Quali sono le caratteristiche distintive</a:t>
            </a:r>
            <a:br>
              <a:rPr sz="3200"/>
            </a:br>
            <a:r>
              <a:rPr b="1" i="1" lang="en-US" sz="3200" spc="-1" strike="noStrike">
                <a:solidFill>
                  <a:srgbClr val="e63306"/>
                </a:solidFill>
                <a:latin typeface="Skia"/>
              </a:rPr>
              <a:t>di un </a:t>
            </a:r>
            <a:r>
              <a:rPr b="1" lang="en-US" sz="3200" spc="-1" strike="noStrike">
                <a:solidFill>
                  <a:srgbClr val="f4fa41"/>
                </a:solidFill>
                <a:latin typeface="Skia"/>
              </a:rPr>
              <a:t>bel</a:t>
            </a:r>
            <a:r>
              <a:rPr b="1" i="1" lang="en-US" sz="3200" spc="-1" strike="noStrike">
                <a:solidFill>
                  <a:srgbClr val="e63306"/>
                </a:solidFill>
                <a:latin typeface="Skia"/>
              </a:rPr>
              <a:t> teorema?</a:t>
            </a:r>
            <a:endParaRPr b="1" i="1" lang="en-US" sz="3200" spc="-1" strike="noStrike">
              <a:solidFill>
                <a:srgbClr val="cf271f"/>
              </a:solidFill>
              <a:latin typeface="Copperplate Gothic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5280" y="32004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Rivela collegamenti inaspettati fra argomenti apparentemente molto diversi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Ha un enunciato elegante e incisivo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Ha conseguenze profonde e di vasta portata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Risolve un importante problema aperto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La dimostrazione richiede tecniche nuove utili anche in altri contesti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a41"/>
                </a:solidFill>
                <a:latin typeface="AGaramond"/>
              </a:rPr>
              <a:t>È il punto di partenza per lo sviluppo di nuove teorie e nuovi risultati.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" y="5791320"/>
            <a:ext cx="100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63306"/>
                </a:solidFill>
                <a:latin typeface="AGaramond Italic"/>
              </a:rPr>
              <a:t>Il Teorema dell’Indice di Atiyah-Singer è tutto questo e anche di più…</a:t>
            </a:r>
            <a:endParaRPr b="0" lang="en-US" sz="24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629160" y="4754160"/>
            <a:ext cx="3179520" cy="11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e63306"/>
                </a:solidFill>
                <a:latin typeface="Skia"/>
              </a:rPr>
              <a:t>Caratteristica di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e63306"/>
                </a:solidFill>
                <a:latin typeface="Skia"/>
              </a:rPr>
              <a:t>Eulero-Poincaré:</a:t>
            </a:r>
            <a:endParaRPr b="0" lang="en-US" sz="2400" spc="-1" strike="noStrike">
              <a:solidFill>
                <a:srgbClr val="f4fa4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4fa41"/>
                </a:solidFill>
                <a:latin typeface="Skia"/>
              </a:rPr>
              <a:t>Facce — Lati + Vertici = 2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15920" y="1828800"/>
            <a:ext cx="8407440" cy="2158920"/>
            <a:chOff x="1015920" y="1828800"/>
            <a:chExt cx="8407440" cy="21589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015920" y="1830240"/>
              <a:ext cx="2108160" cy="21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4140360" y="1828800"/>
              <a:ext cx="216684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7324560" y="1828800"/>
              <a:ext cx="2098800" cy="21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744480" y="4267080"/>
            <a:ext cx="8947080" cy="2160720"/>
            <a:chOff x="744480" y="4267080"/>
            <a:chExt cx="8947080" cy="2160720"/>
          </a:xfrm>
        </p:grpSpPr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744480" y="4267080"/>
              <a:ext cx="211284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5"/>
            <a:stretch/>
          </p:blipFill>
          <p:spPr>
            <a:xfrm>
              <a:off x="7532640" y="4267080"/>
              <a:ext cx="2158920" cy="215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982080" y="3745080"/>
            <a:ext cx="106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4 { 6 + 4 = 2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21640" y="3745080"/>
            <a:ext cx="116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6 { 12 + 8 = 2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96840" y="3745080"/>
            <a:ext cx="116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8 { 12 + 6 = 2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195960"/>
            <a:ext cx="134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12 { 30 + 20 = 2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21480" y="6195960"/>
            <a:ext cx="134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20 { 30 + 12 = 2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Macintosh HD:Users:marcoabate:Presentazioni:Divulgazione:Nobel:Immagini Nobel:filmati:toroquad.mov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502160" cy="3238560"/>
          </a:xfrm>
          <a:prstGeom prst="rect">
            <a:avLst/>
          </a:prstGeom>
          <a:ln w="0">
            <a:noFill/>
          </a:ln>
        </p:spPr>
      </p:pic>
      <p:pic>
        <p:nvPicPr>
          <p:cNvPr id="161" name="Macintosh HD:Users:marcoabate:Presentazioni:Divulgazione:Nobel:Immagini Nobel:filmati:bitoroq.mov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4502160" cy="32385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289560" y="6019920"/>
            <a:ext cx="33530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4fa41"/>
                </a:solidFill>
                <a:latin typeface="Skia"/>
              </a:rPr>
              <a:t>Facce — Lati + Vertici = –2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55800" y="60199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4fa41"/>
                </a:solidFill>
                <a:latin typeface="Skia"/>
              </a:rPr>
              <a:t>Facce — Lati + Vertici = 0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36720" y="2362320"/>
            <a:ext cx="339084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365880" y="2362320"/>
            <a:ext cx="3198960" cy="3238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05320" y="5257800"/>
            <a:ext cx="137772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32 { 48 + 16 = 0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5257800"/>
            <a:ext cx="14572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mr17"/>
              </a:rPr>
              <a:t>60 { 90 + 28 = {2</a:t>
            </a:r>
            <a:endParaRPr b="0" lang="en-US" sz="1300" spc="-1" strike="noStrike">
              <a:solidFill>
                <a:srgbClr val="f4fa4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83920" y="1603440"/>
            <a:ext cx="56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63306"/>
                </a:solidFill>
                <a:latin typeface="Skia"/>
              </a:rPr>
              <a:t>Caratteristica di Eulero-Poincaré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Macintosh HD:Users:marcoabate:Presentazioni:Divulgazione:Nobel:Immagini Nobel:filmati:toro.mov" descr=""/>
          <p:cNvPicPr/>
          <p:nvPr/>
        </p:nvPicPr>
        <p:blipFill>
          <a:blip r:embed="rId1"/>
          <a:stretch/>
        </p:blipFill>
        <p:spPr>
          <a:xfrm>
            <a:off x="380880" y="2360520"/>
            <a:ext cx="4502160" cy="3238560"/>
          </a:xfrm>
          <a:prstGeom prst="rect">
            <a:avLst/>
          </a:prstGeom>
          <a:ln w="0">
            <a:noFill/>
          </a:ln>
        </p:spPr>
      </p:pic>
      <p:pic>
        <p:nvPicPr>
          <p:cNvPr id="170" name="Macintosh HD:Users:marcoabate:Presentazioni:Divulgazione:Nobel:Immagini Nobel:filmati:sfera2.mov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4502160" cy="3238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400800" y="6019920"/>
            <a:ext cx="31240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4fa41"/>
                </a:solidFill>
                <a:latin typeface="Skia"/>
              </a:rPr>
              <a:t>Facce — Lati + Vertici = 2</a:t>
            </a:r>
            <a:endParaRPr b="0" lang="en-US" sz="2000" spc="-1" strike="noStrike">
              <a:solidFill>
                <a:srgbClr val="f4fa41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365880" y="2362320"/>
            <a:ext cx="3217680" cy="3238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383920" y="1603440"/>
            <a:ext cx="56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63306"/>
                </a:solidFill>
                <a:latin typeface="Skia"/>
              </a:rPr>
              <a:t>Caratteristica di Eulero-Poincaré</a:t>
            </a:r>
            <a:endParaRPr b="0" lang="en-US" sz="2800" spc="-1" strike="noStrike">
              <a:solidFill>
                <a:srgbClr val="f4fa41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825480" y="2360520"/>
            <a:ext cx="3613320" cy="3238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55800" y="60199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4fa41"/>
                </a:solidFill>
                <a:latin typeface="Skia"/>
              </a:rPr>
              <a:t>Facce — Lati + Vertici = 0</a:t>
            </a:r>
            <a:endParaRPr b="0" lang="en-US" sz="2000" spc="-1" strike="noStrike">
              <a:solidFill>
                <a:srgbClr val="f4fa4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9:33:20Z</dcterms:created>
  <dc:creator>Marco Abate</dc:creator>
  <dc:description/>
  <dc:language>en-US</dc:language>
  <cp:lastModifiedBy>Marco Abate</cp:lastModifiedBy>
  <dcterms:modified xsi:type="dcterms:W3CDTF">2005-04-04T07:55:48Z</dcterms:modified>
  <cp:revision>53</cp:revision>
  <dc:subject/>
  <dc:title>PowerPoint Presentation</dc:title>
</cp:coreProperties>
</file>