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9C8-C891-462B-B74D-6422BA1E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A2C-8914-4FB8-BECE-FB67208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022-B761-4258-ACC5-55795078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C9F-5DBB-4A90-812C-189CCAF8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2960-7125-480C-A818-CDAF1082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C86A-C69C-4650-96AC-24813D73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8A40-2852-4B17-A464-0429C706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AFF7-C68A-4DD2-8D23-B220B58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1187-AFE0-46B0-9350-00934429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E674-7936-4C18-92BD-CAD65CC4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67FA-ED41-4A14-84B1-C6A60D1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342-5005-477D-B2AB-6CBB0AD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1F04-94B2-4D6C-9E4E-7E38CBDB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1A92-80F5-46D0-B206-7DC5302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B83F-6DE9-4AFE-ABB8-55938EE8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C59D-01EC-403A-B511-15414031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30A9-CB67-41CB-B9AF-7A05B6ED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751-9BEF-40CF-AA64-975C127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AE0-E8E4-47D4-8F52-7E25CBD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B1C-367B-4F83-9E46-D35C2F70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CBC-25BD-4EEC-AC70-ECB63729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E2B-D7B7-4FC7-B277-1213A45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7C3-B1AF-425E-AA64-D037C387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852-1B50-4207-B93D-14E772C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D32-713B-4C07-8795-6063F37C5A7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6EE7-BD9E-4F25-8F73-748767F4DFF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2b23"/>
                </a:solidFill>
                <a:latin typeface="Century Schoolbook"/>
              </a:rPr>
              <a:t>Professore ordinario: </a:t>
            </a:r>
            <a:r>
              <a:rPr b="1" i="1" lang="en-US" sz="3200" spc="-1" strike="noStrike">
                <a:solidFill>
                  <a:srgbClr val="36f83d"/>
                </a:solidFill>
                <a:latin typeface="Century Schoolbook"/>
              </a:rPr>
              <a:t>profession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ssunto per concorso: 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tito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are ricerc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50%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insegn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50%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amministr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50%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Stipendio iniziale: circa 2400 euro netti mensi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amministr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a ricerca ha bisogno d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inanziamenti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comprare strumentazione (computer...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invitare altri matematici e organizzare conveg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visitare altre università e partecipare a conveg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 pagare borse di studio e assegni di ricerc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I finanziamenti vanno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richiesti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gestiti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amministr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La didattica ha bisogno d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organizzazion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quali corsi attivare, quando, affidati a ch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piani di studio e curricul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orientamento, tirocini e contatti con l’ester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(auto)valutazione della qualità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I corsi di laurea vanno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creati</a:t>
            </a:r>
            <a:r>
              <a:rPr b="0" lang="it-IT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gestiti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amministr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’amministrazione ha bisogno d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gestion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difici e attrezzatu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person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bilanc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rapporti con le altre strutture dell’Atene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rapporti con l’ester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ccetera..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’amministrazione v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ensat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amministrata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insegn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rim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ell’inizio del corso bisogna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cegliere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qual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cors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insegnare (trattativa fra il docente e il corso di laurea e/o il dipartimento e/o la facoltà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cegliere il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programm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ei corsi (fissato a grandi linee per i corsi fondamentali, libero per i corsi avanzati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insegn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6f83d"/>
                </a:solidFill>
                <a:latin typeface="Times New Roman"/>
              </a:rPr>
              <a:t>Durant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il corso bisogna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prepara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le singole lezio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imparti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le singole lezio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effettua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ricevimento studen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prepara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9933ff"/>
                </a:solidFill>
                <a:latin typeface="Times New Roman"/>
              </a:rPr>
              <a:t>correggere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eventuali compitin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insegna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Dop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la fine del corso bisogna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prepar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gli esami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somministr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gli esam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riflette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sui risultati ottenuti e sulla valutazione fornita dagli studen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La  ricerca in Matematica ha come obiettivo scoprire nuovi </a:t>
            </a:r>
            <a:r>
              <a:rPr b="0" lang="en-US" sz="3600" spc="-1" strike="noStrike">
                <a:solidFill>
                  <a:srgbClr val="36f83d"/>
                </a:solidFill>
                <a:latin typeface="Times New Roman"/>
              </a:rPr>
              <a:t>teoremi, 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la cui validità deve essere confermata da ragionamenti logici e completi, le </a:t>
            </a:r>
            <a:r>
              <a:rPr b="0" lang="en-US" sz="3600" spc="-1" strike="noStrike">
                <a:solidFill>
                  <a:srgbClr val="36f83d"/>
                </a:solidFill>
                <a:latin typeface="Times New Roman"/>
              </a:rPr>
              <a:t>dimostrazioni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Un </a:t>
            </a:r>
            <a:r>
              <a:rPr b="0" lang="it-IT" sz="2800" spc="-1" strike="noStrike">
                <a:solidFill>
                  <a:srgbClr val="9933ff"/>
                </a:solidFill>
                <a:latin typeface="Times New Roman"/>
              </a:rPr>
              <a:t>buon teorem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rivela caratteristiche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importanti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non evidenti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degli oggetti di cui tratta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E, a volte, rivela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connessioni inaspettat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fra oggetti che sembrano completamente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diversi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Una </a:t>
            </a:r>
            <a:r>
              <a:rPr b="0" lang="it-IT" sz="2800" spc="-1" strike="noStrike">
                <a:solidFill>
                  <a:srgbClr val="9933ff"/>
                </a:solidFill>
                <a:latin typeface="Times New Roman"/>
              </a:rPr>
              <a:t>buona dimostrazion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chiarisce perché il teorema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dev’esser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ver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E, a volte, è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elegante, armonios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ineluttabil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come una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sinfonia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9880"/>
            <a:ext cx="79246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36f83d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Times New Roman"/>
              </a:rPr>
              <a:t>L’Ultimo Teorema di Ferma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Quale che sia 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k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≥3, l’equazion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x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k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+ 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y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k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 = z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non ha soluzioni intere positive, ment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x</a:t>
            </a:r>
            <a:r>
              <a:rPr b="0" lang="it-IT" sz="2800" spc="-1" strike="noStrike" baseline="30000">
                <a:solidFill>
                  <a:srgbClr val="ff2b23"/>
                </a:solidFill>
                <a:latin typeface="Times New Roman"/>
              </a:rPr>
              <a:t>2</a:t>
            </a:r>
            <a:r>
              <a:rPr b="0" i="1" lang="it-IT" sz="2800" spc="-1" strike="noStrike" baseline="30000">
                <a:solidFill>
                  <a:srgbClr val="ff2b2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+ 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y</a:t>
            </a:r>
            <a:r>
              <a:rPr b="0" lang="it-IT" sz="2800" spc="-1" strike="noStrike" baseline="30000">
                <a:solidFill>
                  <a:srgbClr val="ff2b23"/>
                </a:solidFill>
                <a:latin typeface="Times New Roman"/>
              </a:rPr>
              <a:t>2</a:t>
            </a:r>
            <a:r>
              <a:rPr b="0" i="1" lang="it-IT" sz="2800" spc="-1" strike="noStrike">
                <a:solidFill>
                  <a:srgbClr val="ff2b23"/>
                </a:solidFill>
                <a:latin typeface="Times New Roman"/>
              </a:rPr>
              <a:t> = z</a:t>
            </a:r>
            <a:r>
              <a:rPr b="0" lang="it-IT" sz="2800" spc="-1" strike="noStrike" baseline="30000">
                <a:solidFill>
                  <a:srgbClr val="ff2b2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2b23"/>
                </a:solidFill>
                <a:latin typeface="Times New Roman"/>
              </a:rPr>
              <a:t>ha infinite soluzioni intere positiv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È una proprietà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profond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inaspettat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dei numeri naturali, la cui dimostrazione dipende da una relazione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imprevista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e </a:t>
            </a:r>
            <a:r>
              <a:rPr b="0" lang="it-IT" sz="2800" spc="-1" strike="noStrike">
                <a:solidFill>
                  <a:srgbClr val="ffff42"/>
                </a:solidFill>
                <a:latin typeface="Times New Roman"/>
              </a:rPr>
              <a:t>cruciale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fra i numeri e le ciambelle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uhaus 93"/>
              </a:rPr>
              <a:t>Università di P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752480"/>
            <a:ext cx="685800" cy="4191120"/>
          </a:xfrm>
          <a:prstGeom prst="rect">
            <a:avLst/>
          </a:prstGeom>
          <a:solidFill>
            <a:srgbClr val="ff6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752480"/>
            <a:ext cx="685800" cy="4191120"/>
          </a:xfrm>
          <a:prstGeom prst="rect">
            <a:avLst/>
          </a:prstGeom>
          <a:solidFill>
            <a:srgbClr val="ffa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1752480"/>
            <a:ext cx="685800" cy="4191120"/>
          </a:xfrm>
          <a:prstGeom prst="rect">
            <a:avLst/>
          </a:prstGeom>
          <a:solidFill>
            <a:srgbClr val="ffe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solidFill>
            <a:srgbClr val="d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52480"/>
            <a:ext cx="685800" cy="4191120"/>
          </a:xfrm>
          <a:prstGeom prst="rect">
            <a:avLst/>
          </a:prstGeom>
          <a:solidFill>
            <a:srgbClr val="9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solidFill>
            <a:srgbClr val="66ff7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1752480"/>
            <a:ext cx="685800" cy="4191120"/>
          </a:xfrm>
          <a:prstGeom prst="rect">
            <a:avLst/>
          </a:prstGeom>
          <a:solidFill>
            <a:srgbClr val="66ffb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685800" cy="419112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752480"/>
            <a:ext cx="685800" cy="419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1752480"/>
            <a:ext cx="685800" cy="4191120"/>
          </a:xfrm>
          <a:prstGeom prst="rect">
            <a:avLst/>
          </a:prstGeom>
          <a:solidFill>
            <a:srgbClr val="668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1752480"/>
            <a:ext cx="685800" cy="4191120"/>
          </a:xfrm>
          <a:prstGeom prst="rect">
            <a:avLst/>
          </a:prstGeom>
          <a:solidFill>
            <a:srgbClr val="7f6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 rot="5400000">
            <a:off x="-8895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Agrar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037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Econom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4816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Farmac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11674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Giurisprudenz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1801440" y="3589200"/>
            <a:ext cx="404784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Ingegner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25390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Lettere e Filosof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32252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Lingue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39110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Medicin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45968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20f"/>
                </a:solidFill>
                <a:latin typeface="Copperplate Gothic Bold"/>
              </a:rPr>
              <a:t>SCIENZE MF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20f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52826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Scienze Politiche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59684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entury Schoolbook"/>
              </a:rPr>
              <a:t>Veterinaria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I teoremi e le dimostrazioni sono presentati in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articoli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libri,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pubblicati d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decin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i editori i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centinaia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di riviste e collane in </a:t>
            </a: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tutto il mondo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I teoremi e le dimostrazioni vengono raccontati in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seminar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fatti i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università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e i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convegni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he si tengono i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tutto il mondo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Creare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matematica è un’attività principalmente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solitaria,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o tutt’al più svolta in piccoli gruppi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arlare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di matematica è invece un’attività molto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gregaria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I matematici di tutto il mondo sono in stretto contatto fra loro (usando l’</a:t>
            </a:r>
            <a:r>
              <a:rPr b="0" lang="en-US" sz="3200" spc="-1" strike="noStrike">
                <a:solidFill>
                  <a:srgbClr val="ff2b23"/>
                </a:solidFill>
                <a:latin typeface="Times New Roman"/>
              </a:rPr>
              <a:t>ingles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ome lingua comune)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La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comunità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matematica non risente delle divisioni nazionali, ma è un’unità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mondiale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osa vuol dire </a:t>
            </a:r>
            <a:r>
              <a:rPr b="1" i="1" lang="en-US" sz="3600" spc="-1" strike="noStrike">
                <a:solidFill>
                  <a:srgbClr val="ffff42"/>
                </a:solidFill>
                <a:latin typeface="Century Schoolbook"/>
              </a:rPr>
              <a:t>fare ricerc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Una parte non indifferente dell’abilità (e del lavoro) di un matematico consiste nel riuscire a </a:t>
            </a:r>
            <a:r>
              <a:rPr b="0" lang="en-US" sz="3600" spc="-1" strike="noStrike">
                <a:solidFill>
                  <a:srgbClr val="ffff42"/>
                </a:solidFill>
                <a:latin typeface="Times New Roman"/>
              </a:rPr>
              <a:t>capire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qual è il </a:t>
            </a:r>
            <a:r>
              <a:rPr b="0" lang="en-US" sz="3600" spc="-1" strike="noStrike">
                <a:solidFill>
                  <a:srgbClr val="ff2b23"/>
                </a:solidFill>
                <a:latin typeface="Times New Roman"/>
              </a:rPr>
              <a:t>problema,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e a </a:t>
            </a:r>
            <a:r>
              <a:rPr b="0" lang="en-US" sz="3600" spc="-1" strike="noStrike">
                <a:solidFill>
                  <a:srgbClr val="ffff42"/>
                </a:solidFill>
                <a:latin typeface="Times New Roman"/>
              </a:rPr>
              <a:t>porsi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le </a:t>
            </a:r>
            <a:r>
              <a:rPr b="0" lang="en-US" sz="3600" spc="-1" strike="noStrike">
                <a:solidFill>
                  <a:srgbClr val="ff2b23"/>
                </a:solidFill>
                <a:latin typeface="Times New Roman"/>
              </a:rPr>
              <a:t>domande</a:t>
            </a:r>
            <a:r>
              <a:rPr b="0" lang="en-US" sz="3600" spc="-1" strike="noStrike">
                <a:solidFill>
                  <a:srgbClr val="6699ff"/>
                </a:solidFill>
                <a:latin typeface="Times New Roman"/>
              </a:rPr>
              <a:t> giuste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Vogliamo trovare le 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radici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di un polinomio a coefficienti real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=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a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mi12"/>
              </a:rPr>
              <a:t>d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800" spc="-1" strike="noStrike" baseline="30000">
                <a:solidFill>
                  <a:srgbClr val="36f83d"/>
                </a:solidFill>
                <a:latin typeface="cmmi12"/>
              </a:rPr>
              <a:t>d</a:t>
            </a:r>
            <a:r>
              <a:rPr b="0" i="1" lang="it-IT" sz="2800" spc="-1" strike="noStrike" baseline="30000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+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···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+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a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r12"/>
              </a:rPr>
              <a:t>1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i="1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r12"/>
              </a:rPr>
              <a:t>+</a:t>
            </a:r>
            <a:r>
              <a:rPr b="0" i="1" lang="it-IT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a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cmmi12"/>
              </a:rPr>
              <a:t>c</a:t>
            </a:r>
            <a:r>
              <a:rPr b="0" i="1" lang="it-IT" sz="2800" spc="-1" strike="noStrike" baseline="-25000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è una radice se </a:t>
            </a:r>
            <a:r>
              <a:rPr b="0" lang="it-IT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cmmi12"/>
              </a:rPr>
              <a:t>c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it-IT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=</a:t>
            </a:r>
            <a:r>
              <a:rPr b="0" lang="it-IT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Cosa vuol dire </a:t>
            </a:r>
            <a:r>
              <a:rPr b="0" i="1" lang="it-IT" sz="2800" spc="-1" strike="noStrike">
                <a:solidFill>
                  <a:srgbClr val="ffff42"/>
                </a:solidFill>
                <a:latin typeface="Times New Roman"/>
              </a:rPr>
              <a:t>trovare una radice?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Formule generali che esprimono le radici tramite i coefficienti del polinomio ci sono solo per polinomi di secondo, terzo e quarto grado; formule analoghe per polinomi di grado 5 o più </a:t>
            </a:r>
            <a:r>
              <a:rPr b="1" i="1" lang="it-IT" sz="2800" spc="-1" strike="noStrike">
                <a:solidFill>
                  <a:srgbClr val="ff2b23"/>
                </a:solidFill>
                <a:latin typeface="Times New Roman"/>
              </a:rPr>
              <a:t>non esistono.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Idea di Newton 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diciassettesimo secolo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):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trovare un procedimento (u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algoritm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) che applicato a un numero qualsiasi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fornisca un nuovo numero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più vicin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a essere una radice di quanto non fosse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. Ripetendo il procedimento partendo da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(e poi da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2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poi da </a:t>
            </a:r>
            <a:r>
              <a:rPr b="0" lang="en-US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cmr12"/>
              </a:rPr>
              <a:t>3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così via) si riesce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d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approssim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una radice del polinomio con l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recision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he si desidera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ff"/>
                </a:solidFill>
                <a:latin typeface="Times New Roman"/>
              </a:rPr>
              <a:t>Algoritmo di Newton: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dato il polinomio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en-US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e il tentativo iniziale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, tracciamo la tangente al grafico di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nel punt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))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e prendiamo come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’ intersezione della tangente con l’asse delle asciss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In formul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1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=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)/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800" spc="-1" strike="noStrike" baseline="30000">
                <a:solidFill>
                  <a:srgbClr val="36f83d"/>
                </a:solidFill>
                <a:latin typeface="cmsy10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en-US" sz="2800" spc="-1" strike="noStrike">
                <a:solidFill>
                  <a:srgbClr val="36f83d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dove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 baseline="30000">
                <a:solidFill>
                  <a:srgbClr val="6699ff"/>
                </a:solidFill>
                <a:latin typeface="cmsy10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è la derivata di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 calcolata in </a:t>
            </a:r>
            <a:r>
              <a:rPr b="0" lang="en-US" sz="28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en-US" sz="28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920" y="228240"/>
            <a:ext cx="880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64000" cy="439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V="1">
            <a:off x="3951360" y="3321000"/>
            <a:ext cx="1879560" cy="126864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29480" y="3319560"/>
            <a:ext cx="0" cy="71892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821200" y="3328920"/>
            <a:ext cx="720720" cy="71136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546960" y="3249360"/>
            <a:ext cx="0" cy="7308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465600" y="3243240"/>
            <a:ext cx="82440" cy="7632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951360" y="3319560"/>
            <a:ext cx="0" cy="1270080"/>
          </a:xfrm>
          <a:prstGeom prst="line">
            <a:avLst/>
          </a:prstGeom>
          <a:ln w="6480">
            <a:solidFill>
              <a:srgbClr val="ff0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07120" y="2781360"/>
            <a:ext cx="250920" cy="523800"/>
          </a:xfrm>
          <a:prstGeom prst="line">
            <a:avLst/>
          </a:prstGeom>
          <a:ln w="12600">
            <a:solidFill>
              <a:srgbClr val="00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3400" y="3068640"/>
            <a:ext cx="311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70b"/>
                </a:solidFill>
                <a:latin typeface="cmmi12"/>
              </a:rPr>
              <a:t>x</a:t>
            </a:r>
            <a:r>
              <a:rPr b="0" lang="en-US" sz="1200" spc="-1" strike="noStrike" baseline="-25000">
                <a:solidFill>
                  <a:srgbClr val="ff070b"/>
                </a:solidFill>
                <a:latin typeface="cmr12"/>
              </a:rPr>
              <a:t>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7640" y="3060720"/>
            <a:ext cx="311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70b"/>
                </a:solidFill>
                <a:latin typeface="cmmi12"/>
              </a:rPr>
              <a:t>x</a:t>
            </a:r>
            <a:r>
              <a:rPr b="0" lang="en-US" sz="1200" spc="-1" strike="noStrike" baseline="-25000">
                <a:solidFill>
                  <a:srgbClr val="ff070b"/>
                </a:solidFill>
                <a:latin typeface="cmr12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0680" y="3262320"/>
            <a:ext cx="311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70b"/>
                </a:solidFill>
                <a:latin typeface="cmmi12"/>
              </a:rPr>
              <a:t>x</a:t>
            </a:r>
            <a:r>
              <a:rPr b="0" lang="en-US" sz="1200" spc="-1" strike="noStrike" baseline="-25000">
                <a:solidFill>
                  <a:srgbClr val="ff070b"/>
                </a:solidFill>
                <a:latin typeface="cmr12"/>
              </a:rPr>
              <a:t>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73120" y="2590920"/>
            <a:ext cx="304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it-IT" sz="1200" spc="-1" strike="noStrike" baseline="-25000">
                <a:solidFill>
                  <a:srgbClr val="0099cc"/>
                </a:solidFill>
                <a:latin typeface="cmmi12"/>
              </a:rPr>
              <a:t>c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65480" y="582624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p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(</a:t>
            </a: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) = - </a:t>
            </a: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0099cc"/>
                </a:solidFill>
                <a:latin typeface="cmr12"/>
              </a:rPr>
              <a:t>5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 + 1.6 </a:t>
            </a:r>
            <a:r>
              <a:rPr b="0" lang="en-US" sz="1400" spc="-1" strike="noStrike">
                <a:solidFill>
                  <a:srgbClr val="0099cc"/>
                </a:solidFill>
                <a:latin typeface="cmmi12"/>
              </a:rPr>
              <a:t>x</a:t>
            </a:r>
            <a:r>
              <a:rPr b="0" lang="en-US" sz="1400" spc="-1" strike="noStrike" baseline="30000">
                <a:solidFill>
                  <a:srgbClr val="0099cc"/>
                </a:solidFill>
                <a:latin typeface="cmr12"/>
              </a:rPr>
              <a:t>3</a:t>
            </a:r>
            <a:r>
              <a:rPr b="0" lang="en-US" sz="1400" spc="-1" strike="noStrike">
                <a:solidFill>
                  <a:srgbClr val="0099cc"/>
                </a:solidFill>
                <a:latin typeface="cmr12"/>
              </a:rPr>
              <a:t> - 0.5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Domanda:</a:t>
            </a:r>
            <a:r>
              <a:rPr b="0" i="1" lang="it-IT" sz="3200" spc="-1" strike="noStrike">
                <a:solidFill>
                  <a:srgbClr val="6699ff"/>
                </a:solidFill>
                <a:latin typeface="Times New Roman"/>
              </a:rPr>
              <a:t> ma il metodo di Newton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funziona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Risposta di Newton: </a:t>
            </a:r>
            <a:r>
              <a:rPr b="1" i="1" lang="it-IT" sz="3200" spc="-1" strike="noStrike">
                <a:solidFill>
                  <a:srgbClr val="ff2b23"/>
                </a:solidFill>
                <a:latin typeface="Times New Roman"/>
              </a:rPr>
              <a:t>Sì,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se si parte da un valore </a:t>
            </a:r>
            <a:r>
              <a:rPr b="0" lang="it-IT" sz="32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32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3200" spc="-1" strike="noStrike" baseline="-25000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abbastanza vicino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a una radic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Controdomanda di Cayley </a:t>
            </a:r>
            <a:r>
              <a:rPr b="0" i="1" lang="it-IT" sz="3200" spc="-1" strike="noStrike">
                <a:solidFill>
                  <a:srgbClr val="00ffff"/>
                </a:solidFill>
                <a:latin typeface="Times New Roman"/>
              </a:rPr>
              <a:t>(diciannovesimo secolo):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ma se non sappiamo dove sono le radici come facciamo a essere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sicuri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di partire abbastanza vicini a una di esse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30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33ff"/>
                </a:solidFill>
                <a:latin typeface="Times New Roman"/>
              </a:rPr>
              <a:t>Riformulazione di Cayley: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consideriamo la funzione razionale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=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 –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/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 baseline="30000">
                <a:solidFill>
                  <a:srgbClr val="36f83d"/>
                </a:solidFill>
                <a:latin typeface="cmsy10"/>
              </a:rPr>
              <a:t>0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Preso un numero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mpless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poniamo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r12"/>
              </a:rPr>
              <a:t>1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=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00ffff"/>
                </a:solidFill>
                <a:latin typeface="cmr12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e, più in generale,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=</a:t>
            </a:r>
            <a:r>
              <a:rPr b="0" i="1" lang="it-IT" sz="2400" spc="-1" strike="noStrike">
                <a:solidFill>
                  <a:srgbClr val="36f83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n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Arial"/>
              </a:rPr>
              <a:t>–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1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36f83d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Se la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succession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cmmi12"/>
              </a:rPr>
              <a:t>n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nverg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a un numero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necessariament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ev’essere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mi12"/>
              </a:rPr>
              <a:t>c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)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=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; e questo può succedere se e solo se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cmr12"/>
              </a:rPr>
              <a:t>) = 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cioè se e solo se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è una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radic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i </a:t>
            </a:r>
            <a:r>
              <a:rPr b="0" lang="it-IT" sz="2400" spc="-1" strike="noStrike">
                <a:solidFill>
                  <a:srgbClr val="6699ff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 Quindi la domanda è: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er quali valori di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la successione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mi12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converge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33ff"/>
                </a:solidFill>
                <a:latin typeface="Times New Roman"/>
              </a:rPr>
              <a:t>Prima risposta di Cayley: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se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è un polinomio di secondo grado, la risposta è </a:t>
            </a:r>
            <a:r>
              <a:rPr b="0" lang="it-IT" sz="2400" spc="-1" strike="noStrike">
                <a:solidFill>
                  <a:srgbClr val="ff2b23"/>
                </a:solidFill>
                <a:latin typeface="Times New Roman"/>
              </a:rPr>
              <a:t>facil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 L’unico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da escludere è quello in cui la derivata di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si annulla (per cui</a:t>
            </a:r>
            <a:r>
              <a:rPr b="0" lang="it-IT" sz="2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f 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it-IT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cmr12"/>
              </a:rPr>
              <a:t>0</a:t>
            </a:r>
            <a:r>
              <a:rPr b="0" lang="it-IT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it-IT" sz="2800" spc="-1" strike="noStrike">
                <a:solidFill>
                  <a:srgbClr val="00ffff"/>
                </a:solidFill>
                <a:latin typeface="cmr12"/>
              </a:rPr>
              <a:t>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definita), e che è il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punto medi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el segmento individuato dalle due radici. Partendo a sinistra del punto medio il procedimento converge alla radice più piccola; partendo a destra converge alla radice più grande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Nel piano complesso bisogna escludere l’</a:t>
            </a:r>
            <a:r>
              <a:rPr b="0" i="1" lang="it-IT" sz="2400" spc="-1" strike="noStrike">
                <a:solidFill>
                  <a:srgbClr val="ffff42"/>
                </a:solidFill>
                <a:latin typeface="Times New Roman"/>
              </a:rPr>
              <a:t>asse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del segmento congiungente le due radici; e partendo in ciascun semipiano il procedimento converge alla radice contenuta in quel semipian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]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uhaus 93"/>
              </a:rPr>
              <a:t>Facoltà di Scienz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auhaus 93"/>
              </a:rPr>
              <a:t>Matematiche, Fisiche e Natura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solidFill>
            <a:srgbClr val="458ba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752480"/>
            <a:ext cx="5257800" cy="38124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Chim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133720"/>
            <a:ext cx="52578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Fis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14600"/>
            <a:ext cx="5257800" cy="380880"/>
          </a:xfrm>
          <a:prstGeom prst="rect">
            <a:avLst/>
          </a:prstGeom>
          <a:solidFill>
            <a:srgbClr val="66f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895480"/>
            <a:ext cx="5257800" cy="381240"/>
          </a:xfrm>
          <a:prstGeom prst="rect">
            <a:avLst/>
          </a:prstGeom>
          <a:solidFill>
            <a:srgbClr val="66e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 applica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76720"/>
            <a:ext cx="5257800" cy="380880"/>
          </a:xfrm>
          <a:prstGeom prst="rect">
            <a:avLst/>
          </a:prstGeom>
          <a:solidFill>
            <a:srgbClr val="66d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657600"/>
            <a:ext cx="52578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biologiche molecolar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038480"/>
            <a:ext cx="5257800" cy="381240"/>
          </a:xfrm>
          <a:prstGeom prst="rect">
            <a:avLst/>
          </a:prstGeom>
          <a:solidFill>
            <a:srgbClr val="66c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8f8f8"/>
                </a:solidFill>
                <a:latin typeface="Arial"/>
              </a:rPr>
              <a:t>Scienze ecologiche e della biodiversità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419720"/>
            <a:ext cx="5257800" cy="380880"/>
          </a:xfrm>
          <a:prstGeom prst="rect">
            <a:avLst/>
          </a:prstGeom>
          <a:solidFill>
            <a:srgbClr val="66b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Scienze e tecnologie chimiche per l’industria e l’ambient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800600"/>
            <a:ext cx="5257800" cy="380880"/>
          </a:xfrm>
          <a:prstGeom prst="rect">
            <a:avLst/>
          </a:prstGeom>
          <a:solidFill>
            <a:srgbClr val="66a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geologich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181480"/>
            <a:ext cx="525780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natural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562720"/>
            <a:ext cx="1524240" cy="609480"/>
          </a:xfrm>
          <a:prstGeom prst="rect">
            <a:avLst/>
          </a:prstGeom>
          <a:gradFill rotWithShape="0">
            <a:gsLst>
              <a:gs pos="0">
                <a:srgbClr val="285bff"/>
              </a:gs>
              <a:gs pos="100000">
                <a:srgbClr val="66ff7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Scienze per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la pa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00480" y="5562720"/>
            <a:ext cx="2057400" cy="609480"/>
          </a:xfrm>
          <a:prstGeom prst="rect">
            <a:avLst/>
          </a:prstGeom>
          <a:gradFill rotWithShape="0">
            <a:gsLst>
              <a:gs pos="0">
                <a:srgbClr val="5b4fff"/>
              </a:gs>
              <a:gs pos="100000">
                <a:srgbClr val="ff7366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Scienze e tecnologie 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per l’ambiente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524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Chim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810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Chimica industrial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2133720"/>
            <a:ext cx="2514600" cy="10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Fisica applicata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271600"/>
            <a:ext cx="2514600" cy="93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Scienze</a:t>
            </a:r>
            <a:r>
              <a:rPr b="1" i="1" lang="en-US" sz="600" spc="-1" strike="noStrike">
                <a:solidFill>
                  <a:srgbClr val="ff6417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dei materiali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395440"/>
            <a:ext cx="2514600" cy="119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f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417"/>
                </a:solidFill>
                <a:latin typeface="Arial"/>
              </a:rPr>
              <a:t>Scienze fisiche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5146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3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Informat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7432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f3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Tecnologie informatich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895480"/>
            <a:ext cx="25146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e6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Informatica per l’econom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e l’aziend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3276720"/>
            <a:ext cx="2514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d9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6576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c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6417"/>
                </a:solidFill>
                <a:latin typeface="Arial"/>
              </a:rPr>
              <a:t>Neurobiologi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886200"/>
            <a:ext cx="25146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c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6417"/>
                </a:solidFill>
                <a:latin typeface="Arial"/>
              </a:rPr>
              <a:t>Scienze e tecnologie biomolecolar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40384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6417"/>
                </a:solidFill>
                <a:latin typeface="Arial"/>
              </a:rPr>
              <a:t>Biologia marin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267080"/>
            <a:ext cx="25146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c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6417"/>
                </a:solidFill>
                <a:latin typeface="Arial"/>
              </a:rPr>
              <a:t>Scienze fisiopatologiche general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419720"/>
            <a:ext cx="2514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b3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Scienze e tecnologie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per l’ambiente e il territor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4800600"/>
            <a:ext cx="25146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a6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417"/>
                </a:solidFill>
                <a:latin typeface="Arial"/>
              </a:rPr>
              <a:t>Scienze geologich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181480"/>
            <a:ext cx="25146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99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Gestione e valorizzazio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417"/>
                </a:solidFill>
                <a:latin typeface="Arial"/>
              </a:rPr>
              <a:t>delle risorse natural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9880" y="204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9444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5562720"/>
            <a:ext cx="1219320" cy="609480"/>
          </a:xfrm>
          <a:prstGeom prst="rect">
            <a:avLst/>
          </a:prstGeom>
          <a:gradFill rotWithShape="0">
            <a:gsLst>
              <a:gs pos="0">
                <a:srgbClr val="ff2b23"/>
              </a:gs>
              <a:gs pos="100000">
                <a:srgbClr val="36f83d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umanis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5562720"/>
            <a:ext cx="1219320" cy="609480"/>
          </a:xfrm>
          <a:prstGeom prst="rect">
            <a:avLst/>
          </a:prstGeom>
          <a:gradFill rotWithShape="0">
            <a:gsLst>
              <a:gs pos="0">
                <a:srgbClr val="ff2b23"/>
              </a:gs>
              <a:gs pos="100000">
                <a:srgbClr val="36f83d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umanistica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Ma Cayley non riuscì a capire cosa succedeva con polinomi di terzo grado (o di grado maggiore). 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punti medi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e gli altri concetti d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geometria euclidea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non sembravano essere di alcuna utilità. Non riuscì neppure a capire che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domande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doveva porsi sull’insieme dei valori per cui il metodo di Newton funzionava. E non aveva tutti i torti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6440" y="57913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ff"/>
                </a:solidFill>
                <a:latin typeface="Times New Roman"/>
              </a:rPr>
              <a:t>E c’è anche di peggio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16280" y="2209680"/>
            <a:ext cx="3510000" cy="3505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80280" y="1676520"/>
            <a:ext cx="17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) =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cmr12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02000" y="163836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(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(0.68 + 1.6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)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x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36f83d"/>
                </a:solidFill>
                <a:latin typeface="cmr12"/>
              </a:rPr>
              <a:t>0.32 + 1.6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6f83d"/>
                </a:solidFill>
                <a:latin typeface="cmmi12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491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9920" y="228240"/>
            <a:ext cx="880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80280" y="1600200"/>
            <a:ext cx="17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mmi12"/>
              </a:rPr>
              <a:t>p</a:t>
            </a:r>
            <a:r>
              <a:rPr b="0" lang="en-US" sz="2400" spc="-1" strike="noStrike">
                <a:solidFill>
                  <a:srgbClr val="00ffff"/>
                </a:solidFill>
                <a:latin typeface="cmr12"/>
              </a:rPr>
              <a:t>(</a:t>
            </a:r>
            <a:r>
              <a:rPr b="0" lang="en-US" sz="2400" spc="-1" strike="noStrike">
                <a:solidFill>
                  <a:srgbClr val="00ffff"/>
                </a:solidFill>
                <a:latin typeface="cmmi12"/>
              </a:rPr>
              <a:t>x</a:t>
            </a:r>
            <a:r>
              <a:rPr b="0" lang="en-US" sz="2400" spc="-1" strike="noStrike">
                <a:solidFill>
                  <a:srgbClr val="00ffff"/>
                </a:solidFill>
                <a:latin typeface="cmr12"/>
              </a:rPr>
              <a:t>) =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cmmi12"/>
              </a:rPr>
              <a:t>x</a:t>
            </a:r>
            <a:r>
              <a:rPr b="0" lang="en-US" sz="2400" spc="-1" strike="noStrike" baseline="30000">
                <a:solidFill>
                  <a:srgbClr val="00ffff"/>
                </a:solidFill>
                <a:latin typeface="cmr12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ffff"/>
                </a:solidFill>
                <a:latin typeface="cmr12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7" name="Macintosh HD:Users:marcoabate:Presentazioni:Divulgazione:Infiniti:Newton.qtm" descr=""/>
          <p:cNvPicPr/>
          <p:nvPr/>
        </p:nvPicPr>
        <p:blipFill>
          <a:blip r:embed="rId1"/>
          <a:stretch/>
        </p:blipFill>
        <p:spPr>
          <a:xfrm>
            <a:off x="2541600" y="2286000"/>
            <a:ext cx="40622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Si è riusciti a comprendere in maniera ragionevolmente completa cosa stava accadendo solo nella seconda metà del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ventesimo secolo,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grazie allo sviluppo delle teori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sistemi dinamici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rattal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Ancora oggi il metodo di Newton è oggetto di studi approfonditi, e non ha finito di rivelarci tutti i suoi </a:t>
            </a:r>
            <a:r>
              <a:rPr b="0" i="1" lang="en-US" sz="3200" spc="-1" strike="noStrike">
                <a:solidFill>
                  <a:srgbClr val="ff2b23"/>
                </a:solidFill>
                <a:latin typeface="Times New Roman"/>
              </a:rPr>
              <a:t>segret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uhaus 93"/>
              </a:rPr>
              <a:t>Dipartimen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324b7d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9907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9051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e6ff"/>
              </a:gs>
              <a:gs pos="50000">
                <a:srgbClr val="000000"/>
              </a:gs>
              <a:gs pos="100000">
                <a:srgbClr val="66e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209680"/>
            <a:ext cx="685800" cy="4191120"/>
          </a:xfrm>
          <a:prstGeom prst="rect">
            <a:avLst/>
          </a:prstGeom>
          <a:gradFill rotWithShape="0">
            <a:gsLst>
              <a:gs pos="0">
                <a:srgbClr val="66d9ff"/>
              </a:gs>
              <a:gs pos="50000">
                <a:srgbClr val="000000"/>
              </a:gs>
              <a:gs pos="100000">
                <a:srgbClr val="66d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1219320"/>
            <a:ext cx="685800" cy="4190760"/>
          </a:xfrm>
          <a:prstGeom prst="rect">
            <a:avLst/>
          </a:prstGeom>
          <a:gradFill rotWithShape="0">
            <a:gsLst>
              <a:gs pos="0">
                <a:srgbClr val="66b3ff"/>
              </a:gs>
              <a:gs pos="50000">
                <a:srgbClr val="000000"/>
              </a:gs>
              <a:gs pos="100000">
                <a:srgbClr val="66b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685800" cy="4191120"/>
          </a:xfrm>
          <a:prstGeom prst="rect">
            <a:avLst/>
          </a:prstGeom>
          <a:gradFill rotWithShape="0">
            <a:gsLst>
              <a:gs pos="0">
                <a:srgbClr val="66a6ff"/>
              </a:gs>
              <a:gs pos="50000">
                <a:srgbClr val="000000"/>
              </a:gs>
              <a:gs pos="100000">
                <a:srgbClr val="66a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447920"/>
            <a:ext cx="685800" cy="4190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914400"/>
            <a:ext cx="685800" cy="4191120"/>
          </a:xfrm>
          <a:prstGeom prst="rect">
            <a:avLst/>
          </a:prstGeom>
          <a:gradFill rotWithShape="0">
            <a:gsLst>
              <a:gs pos="0">
                <a:srgbClr val="668c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 rot="16200000">
            <a:off x="-704520" y="2838600"/>
            <a:ext cx="35560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himica bioorganica 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ofarmac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16200000">
            <a:off x="469800" y="3492360"/>
            <a:ext cx="264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industri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 rot="16200000">
            <a:off x="965160" y="3301560"/>
            <a:ext cx="304812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tologia, ecologi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d evoluzi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 rot="16200000">
            <a:off x="2508120" y="3511080"/>
            <a:ext cx="1307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c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 rot="16200000">
            <a:off x="2057040" y="4038120"/>
            <a:ext cx="3581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ologia e biochimi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 rot="16200000">
            <a:off x="3589920" y="3572280"/>
            <a:ext cx="188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for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16200000">
            <a:off x="3733920" y="3429000"/>
            <a:ext cx="304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2b23"/>
                </a:solidFill>
                <a:latin typeface="Arial"/>
              </a:rPr>
              <a:t>MATE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2b23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 rot="16200000">
            <a:off x="4203720" y="3111120"/>
            <a:ext cx="34290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rfologia umana 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ologia applicat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16200000">
            <a:off x="4991040" y="369576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botani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 rot="16200000">
            <a:off x="5771880" y="3371400"/>
            <a:ext cx="2933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a ter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 rot="16200000">
            <a:off x="6273720" y="2717640"/>
            <a:ext cx="3429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'uom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 dell'ambient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2b23"/>
                </a:solidFill>
                <a:latin typeface="Century Schoolbook"/>
              </a:rPr>
              <a:t>Dove si possono trovare i Matematic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Nelle facoltà di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Scienze, 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Ingegneria, Economia, Farmacia, Agraria..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Nei dipartimenti di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Matematica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 (a Scienze),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Matematica applicata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 (a Ingegneria),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Statistica e Matematica applicata all’economia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 (a Economia)..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In decine di corsi di laurea (fra cui anche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Tecniche erboristiche...</a:t>
            </a:r>
            <a:r>
              <a:rPr b="0" i="1" lang="it-IT" sz="3200" spc="-1" strike="noStrike">
                <a:solidFill>
                  <a:srgbClr val="66c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Che tipo di matematic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Professori ordinar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Professori associa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Ricercator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Borsisti, assegnisti e simi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Dottorand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Student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2b23"/>
                </a:solidFill>
                <a:latin typeface="Century Schoolbook"/>
              </a:rPr>
              <a:t>La carriera di  un matematic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aure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057400"/>
            <a:ext cx="533160" cy="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85280" y="174312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aurea specialisti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2057400"/>
            <a:ext cx="76176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2057400"/>
            <a:ext cx="0" cy="5335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840" y="266688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Dottora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28440" y="2428920"/>
            <a:ext cx="274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Borse post do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Assegni di ricer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562720" y="2971800"/>
            <a:ext cx="838080" cy="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905120" y="2819520"/>
            <a:ext cx="76176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2819520"/>
            <a:ext cx="0" cy="9144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8480" y="373392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2"/>
                </a:solidFill>
                <a:latin typeface="Times New Roman"/>
              </a:rPr>
              <a:t>Ricercato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9360">
            <a:solidFill>
              <a:srgbClr val="ffff4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7339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2"/>
                </a:solidFill>
                <a:latin typeface="Times New Roman"/>
              </a:rPr>
              <a:t>Professore associa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038480"/>
            <a:ext cx="457200" cy="0"/>
          </a:xfrm>
          <a:prstGeom prst="line">
            <a:avLst/>
          </a:prstGeom>
          <a:ln w="9360">
            <a:solidFill>
              <a:srgbClr val="ffff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4038480"/>
            <a:ext cx="0" cy="685800"/>
          </a:xfrm>
          <a:prstGeom prst="line">
            <a:avLst/>
          </a:prstGeom>
          <a:ln w="9360">
            <a:solidFill>
              <a:srgbClr val="ffff4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472428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2"/>
                </a:solidFill>
                <a:latin typeface="Times New Roman"/>
              </a:rPr>
              <a:t>Professore ordinari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038120" y="5029200"/>
            <a:ext cx="838440" cy="0"/>
          </a:xfrm>
          <a:prstGeom prst="line">
            <a:avLst/>
          </a:prstGeom>
          <a:ln w="9360">
            <a:solidFill>
              <a:srgbClr val="ffff4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72428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b23"/>
                </a:solidFill>
                <a:latin typeface="Times New Roman"/>
              </a:rPr>
              <a:t>Pensiona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5029200"/>
            <a:ext cx="685800" cy="0"/>
          </a:xfrm>
          <a:prstGeom prst="line">
            <a:avLst/>
          </a:prstGeom>
          <a:ln w="9360">
            <a:solidFill>
              <a:srgbClr val="ff2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5029200"/>
            <a:ext cx="0" cy="304920"/>
          </a:xfrm>
          <a:prstGeom prst="line">
            <a:avLst/>
          </a:prstGeom>
          <a:ln w="9360">
            <a:solidFill>
              <a:srgbClr val="ff2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0" cy="685800"/>
          </a:xfrm>
          <a:prstGeom prst="line">
            <a:avLst/>
          </a:prstGeom>
          <a:ln w="9360">
            <a:solidFill>
              <a:srgbClr val="ff2b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2b23"/>
                </a:solidFill>
                <a:latin typeface="Century Schoolbook"/>
              </a:rPr>
              <a:t>Ricercatore: </a:t>
            </a:r>
            <a:r>
              <a:rPr b="1" i="1" lang="en-US" sz="3200" spc="-1" strike="noStrike">
                <a:solidFill>
                  <a:srgbClr val="36f83d"/>
                </a:solidFill>
                <a:latin typeface="Century Schoolbook"/>
              </a:rPr>
              <a:t>giovane apprend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ssunto per concorso: 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titoli, prova scritta, e prova orale (scientifica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are ricerc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secondaria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insegna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Stipendio iniziale: circa 1200 euro netti mensili (sale a 1600 circa dopo la conferma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Professore associato: </a:t>
            </a:r>
            <a:r>
              <a:rPr b="1" i="1" lang="en-US" sz="3600" spc="-1" strike="noStrike">
                <a:solidFill>
                  <a:srgbClr val="36f83d"/>
                </a:solidFill>
                <a:latin typeface="Century Schoolbook"/>
              </a:rPr>
              <a:t>esper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ssunto per concorso: 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titoli, e prova orale (scientifica e didattica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are ricerc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principal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insegna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Deve </a:t>
            </a:r>
            <a:r>
              <a:rPr b="0" i="1" lang="en-US" sz="3200" spc="-1" strike="noStrike">
                <a:solidFill>
                  <a:srgbClr val="ffff42"/>
                </a:solidFill>
                <a:latin typeface="Times New Roman"/>
              </a:rPr>
              <a:t>secondariamente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amministra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Stipendio iniziale: circa 1900 euro netti mensil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13:08Z</dcterms:created>
  <dc:creator>Marco Abate</dc:creator>
  <dc:description/>
  <dc:language>en-US</dc:language>
  <cp:lastModifiedBy>Marco Abate</cp:lastModifiedBy>
  <dcterms:modified xsi:type="dcterms:W3CDTF">2005-02-28T16:58:23Z</dcterms:modified>
  <cp:revision>36</cp:revision>
  <dc:subject/>
  <dc:title>Facoltà dell’Università di Pisa</dc:title>
</cp:coreProperties>
</file>